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4F3-0378-4367-8796-B2DDEB3A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2A5-789C-4383-BDA1-0B88D0AB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1CC-6ABE-4F08-8287-220E0578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25D-534F-4B9B-AC3A-343C523E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7C87-67D3-46B1-87A1-1B6C0E4B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74B1-8286-43AC-B75D-8E2FB4E6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770C-6A70-426B-8D55-F1B923DB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B451-EC95-41C8-810E-193B26F8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2DD3-8808-48CF-BD7C-BB79E5EF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30B4-1166-4E97-A470-E3A4F3FD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9339-FA54-4740-9C6C-A3E914D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F00-2346-4BD9-A5A5-44511DCF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DFC4-37F8-472B-81F9-078CAFF9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C18B-C849-40A7-B632-B95CBEA2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C594-8423-4DC2-86D3-51654326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629C-D78C-4270-BF1B-71190B8B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E2EA-9299-4F7B-9C33-68D602F1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4B6-C170-4AC0-9939-99E7286A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652-CA8A-4BF8-B46D-6D835AA0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968-79BE-48EE-B58D-6C3FF123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9CE-0345-4B55-A5CB-1BCE36D6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097-A772-49C0-B2C1-1B5658A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F8A-7379-4CDE-9325-20048458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0D7-E644-4545-8BCF-B6C40FF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C87C-B8AA-4490-B871-D64F79BA99A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2AF5-7E64-49C9-A26F-4E5DCFFBA35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0B8-17DB-435A-8C08-53696685E9F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통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 웨어하우스 도입시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F03-1F4B-4C77-A0F6-A3120D2E35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  <a:ea typeface="굴림"/>
              </a:rPr>
              <a:t>ERP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란 무엇인가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?</a:t>
            </a:r>
            <a:br>
              <a:rPr sz="4400"/>
            </a:b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tp://www.valhae.com/business/erp.html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  <a:ea typeface="굴림"/>
              </a:rPr>
              <a:t>Enterprise Resource Planning/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  <a:ea typeface="굴림"/>
              </a:rPr>
              <a:t>전사적 자원관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사전체 경영자원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즉 생산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물류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계 등의 기업업무를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전사적인 경영자원으로 활용하기 위하여 최적화하는 시스템으로 주로 통합시스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기업의 경영목적을 가장 효율적으로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기업내의 생산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계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영업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재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물류 등의 업무를 통합적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조직적으로 연계 관리하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사 내 모든 정보를 공유하며 정보를 만들어 제공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기업의 생산성과 경쟁력을 극대화시키는 통합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시스템 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(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OLTP layer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software, 177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페이지 참조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C15-C1B2-412B-8A1C-08AAB8599DA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rp_p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90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762120"/>
            <a:ext cx="7391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valhae.com/business/er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E1A-284F-4FD1-93E0-83177F16E2B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구 우수 모범 기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st practic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프로세스를 담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stomi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의 프로세스를 바꾸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려운 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장표를 개발하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ing syste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표준화된 장표와 그 외는 프로그래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하면 정형화된 장표와 비정형화된 장표를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535-0442-4400-8CC5-DA85572314E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운영계에 해당하는 시스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정보계에 해당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을 처리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의 결과를 분석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하나의 하드웨어에 구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동일한 하드웨어에서 운영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부하를 줄 수 있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하드웨어를 사용하는 것이 바람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순서는 별 문제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8F6-646D-45D0-82B1-DA7195EE06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어떻게 추출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vendo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제공하는 추출 도구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 데이터 마트의 위험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추출하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부서 단위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목적별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추세는 전사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고급 데이터 분석의 내용을 제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업의 경영 활동에 부가가치를 창조할 수 있는 시스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1E8-A4E6-454D-B5A4-8B0740D905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acl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51F-2FAA-413E-88F3-C16717F599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A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37D-5F88-40BF-9080-A2A551D811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8:20:24Z</dcterms:modified>
  <cp:revision>276</cp:revision>
  <dc:subject/>
  <dc:title>제6장 데이터 웨어하우스의 관리</dc:title>
</cp:coreProperties>
</file>