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0B45-ACED-45F8-A0E1-9E2539B5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CAB-9208-4D82-B85E-2CD61C7A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DE0B-D6F1-44CC-9829-ECBFC04C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FB00-C322-47FE-AB3F-8AAD28E7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843C-EAEC-4DB1-B60F-AE218AD7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BAD0-25D9-4F05-B90D-63D9EE0D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2FD0-1235-4296-8E18-AA778334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A75B-4D0B-4CDA-A16A-E57898C7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A9E4-0A7C-4797-8D52-EA831FBC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9315-3254-41F2-BA9E-0D0B05F8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B12C-53B4-4E23-8A18-08E17360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C0A8-E195-4DA4-92C8-775BF44E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E8E3-B29F-4BB7-ACCA-076FDD9D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34F7-2236-48A6-B60A-51AAC32B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4D5D-FBC5-4D98-8D60-B99FD31E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3176-A54F-4E7F-AFE7-9803ECF7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2D7D-28B8-430B-B3E6-8D97EC40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241E-A06C-4CCD-9D56-E268759E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0CA9-B67F-4C29-8F2F-E199FF2E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661B-1263-497B-99EA-8E8C3B82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887E-639D-4F9B-BF22-774AED88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828-C68E-44CE-908E-5DC6A30D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7BC0-ACA0-4706-97BB-9BF22F69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6064-F3FE-444B-B655-7D81CA90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0C78-05FC-4A7E-AF08-68D88EA008A8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F0C9-0443-4F2B-B27F-8C3978AE7001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9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구조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AD02-D36F-41F3-94A7-BE677090AB8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없는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운영계 시스템에서 생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7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 참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의 하드웨어 장비를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용 서버를 작게 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없으므로 디스크 용량을 작게 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교적 저렴한 비용으로 구축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성시 운영계 시스템에 부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성시 많은 추출 프로그램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10A-9801-4222-B2E6-1CD0F8BBF62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가 존재하는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장 많이 채택하고 있는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os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A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태로 추출해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로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데이터의 통합과 정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을 제외하면 운영계 시스템에 부하 없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과 독립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개발과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향후 전사적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의 확장이 매우 쉽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많은 데이터를 보관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이 커진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정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을 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/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용량이 커진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7A4-263D-4BA6-A13A-703922AFFF7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op-down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이냐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Bottom-u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이냐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op-down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를 만드는 회사의 주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를 만드는 데 적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ottom-u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를 만드는 회사의 주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를 만드는 데 적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 Mart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를 많이 만들고 이를 통합한다는 것은 거의 불가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또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같이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BEBA-1B7F-4AFA-A25A-7B70C0E6032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terprise Data Warehou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사적 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회사의 거의 모든 시스템에서 거의 모든 데이터를 가지고 구축하는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’로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F6F0-24C0-4536-A1FC-8F8F668726B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EAB1-D75D-47C7-AEC5-045E2EF3AFD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‘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인프라’로서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Warehou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F6A0-756D-484B-BE56-A4CDE3C6428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A625-03AF-4E63-A91E-F1C947FF4A5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데이터 웨어하우스의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본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어플리케이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DS(Operational Data Sto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사적 데이터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273F-AD29-463D-823F-43A4EDCFEDE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기본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데이터 웨어하우스 구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참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165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저장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sito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차원적인 모델링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act table, dimension table, summary table, meta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여러 가지 기술을 사용하여 액세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통계 분석 패키지를 사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,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켓팅 분야와 결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C300-352B-4A6B-94E6-39A755DFA9F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방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op-dow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ottom-u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DADC-3F10-4651-A209-DB4FA38740A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Ma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m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수 사용자가 제한된 주제로 소규모의 데이터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각 부서별로 다양한 분석과 예측을 목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렴한 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쉽고 빠르게 구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유지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은 데이터 마트는 관리 지원이 어렵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된 생명이 짧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8600" y="3733920"/>
            <a:ext cx="8915400" cy="596520"/>
            <a:chOff x="228600" y="3733920"/>
            <a:chExt cx="8915400" cy="596520"/>
          </a:xfrm>
        </p:grpSpPr>
        <p:sp>
          <p:nvSpPr>
            <p:cNvPr id="109" name=""/>
            <p:cNvSpPr/>
            <p:nvPr/>
          </p:nvSpPr>
          <p:spPr>
            <a:xfrm>
              <a:off x="228600" y="3886200"/>
              <a:ext cx="2209680" cy="43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OLTP </a:t>
              </a: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시스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14600" y="41148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373392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데이터의 추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67080" y="3809880"/>
              <a:ext cx="1981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ata M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8160" y="41148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38880" y="388620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부서별 사용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9868-9EC1-4F10-8C51-77BCFEFC395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Tahoma"/>
                <a:ea typeface="굴림"/>
              </a:rPr>
              <a:t>독립적으로 존재하는 데이터 마트들의 위험성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68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체 시스템 관리를 매우 혼란스럽게 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계 데이터 분석을 위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관리 분석을 위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마켓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포팅을 위한 정보계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관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에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여러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데이터를 중복해서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3717-6339-42F7-8623-9251387B01F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같이 존재하는 데이터 마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(Operational Data Sto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출 분야의 문제점을 해결하기 위해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중간 단계의 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저장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구축하려는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Data Ma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169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같이 존재하는 데이터 마트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C8DB-C148-4B76-9A21-EBE9794AEA2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역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 부분뿐만 아니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모든 데이터의 원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’ 역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주로 </a:t>
            </a: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원시 데이터</a:t>
            </a: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굴림"/>
              </a:rPr>
              <a:t>Raw Data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다 들어가기 때문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체 디스크 용량 산정시 중요한 요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데이터 정제 작업을 쉽게 할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내부 구조가 일반적으로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ER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8C3E-62E7-47C2-BA10-141B9904EC8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DS+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트 구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축 원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의 추출 문제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에서 데이터를 추출하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델링으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서별 데이터 마트의 데이터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추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서버에서의 병목 현상을 데이터 마트로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가 통합되지 않은 회사에 많은 도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규모의 제조업체나 소규모의 유통업체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58D5-1596-4A02-829C-48468DEA744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7T07:05:18Z</dcterms:modified>
  <cp:revision>264</cp:revision>
  <dc:subject/>
  <dc:title>제6장 데이터 웨어하우스의 관리</dc:title>
</cp:coreProperties>
</file>