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30B-B22B-4FB9-942D-C1BA37BB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79B-151D-4363-AF2B-A3A32A00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B9C-312F-4729-A878-60164509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6F4-6DB5-462C-ADC3-A776B1A6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5AFD-72FE-488D-A5C9-B329E0FE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A7E6-5A1B-4EB6-ABDE-8D93E054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C399-4BAA-4FB5-A7FB-55249E3A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F47A-11D5-4646-873E-81F1BA76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F145-0FD2-47E2-8FC0-62168A8F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5B3D-A68B-4A6F-B64B-E034588F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1826-2A8A-4C73-B9EA-EEC6A31D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067-814B-4F46-9580-E6852DA6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B8FE-E8B9-47EE-A9E1-584E6B8A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F7D7-4F83-4F0E-A805-EFF4667C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92CB-D0AF-42F0-9BE1-D9ECFC69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283E-1798-4079-9946-A00EE40C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EB24-E810-48A5-BA39-1D6B8179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0EF-10C4-452D-93C2-321D1CB4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785-1C15-4CDB-87C6-67C4C4FC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E6F-53E2-4BC7-9D5B-94D12D3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320-1EA0-4B6E-B44C-9CF30F44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BDB-2B18-4D35-AFD7-AF71753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3FB-54E1-48BB-B63B-CF8B88E1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602-379C-4586-AE5B-675B5844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8E7C-480E-4C91-8E47-4D8CD6C76A2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9281-CA89-459F-87CF-BE6F7A1F2EE4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720-ED45-4DCC-8516-2C6948F145E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단계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-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정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의 목적 선언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ission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E49-13C5-4EAF-B755-EE98460AFC2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 구축 방법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추진의 주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선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방법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다른 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97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천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발견과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모든 단계에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CD6-B3F5-4A6F-9D21-D71FB5CDD0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원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안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이 사용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의 요구 사항이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반영되어야 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이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강력한 하드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섬세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계 및 튜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신속한 추출과 로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을 구축해본 경험으로 하면 실패하기 쉽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39E-F416-451C-AEFA-7A8E4823DB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제트 추진 주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제일 바람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원하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구축 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컴퓨터 비전문가로 인한 신기술 도입에 어려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산실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개의 경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일럿 시스템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외국 컨설팅 업체에서 맡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국내 기술로도 가능하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888-1E32-4281-93F4-E3840E0CBC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업무 선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안시 가장 고민하는 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영역 선정 작업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민감한 부분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국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만들기 힘든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표 분석 결과가 운영계 시스템과 일치하지 않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을 배치 작업으로 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정보 가동 방식으로는 전혀 분석할 수 없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1D4-BFE2-4515-8542-8900A2E070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방법이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LT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다른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사용자 수를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데이터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보다 약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에 오류 가능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목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트워크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목 현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현업이 프로젝트의 처음에서 끝까지 참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주인은 현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주인은 전산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78C-7CA6-417E-B74D-0EFC242F0D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Projec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시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 발주와 도착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에서 설치까지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월 가량 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원시 데이터를 정의하고 초기의 원시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내리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각보다 시간이 많이 걸린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기존의 운영계 시스템에서 데이터를 맞추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안 맞을 것이다’라는 자세에서 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를 협의하는 시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많으면 곤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4F4-F981-4D3F-94B9-E48B18AAD4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모든 단계를 체계적으로 정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밀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회사마다 구축 방법론이 다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 개발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다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cyc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갖는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377-8BD3-498B-AEE4-B26B2D3325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76212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racle 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7920" y="1600200"/>
            <a:ext cx="5333760" cy="5016240"/>
            <a:chOff x="1447920" y="1600200"/>
            <a:chExt cx="5333760" cy="5016240"/>
          </a:xfrm>
        </p:grpSpPr>
        <p:sp>
          <p:nvSpPr>
            <p:cNvPr id="117" name=""/>
            <p:cNvSpPr/>
            <p:nvPr/>
          </p:nvSpPr>
          <p:spPr>
            <a:xfrm>
              <a:off x="1447920" y="1600200"/>
              <a:ext cx="5257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정  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160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분  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322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설  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34808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구  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522144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천  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6095880"/>
              <a:ext cx="53337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발견과 발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489560" y="389268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문 서 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2819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486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BB9-7E0D-4EB1-B5BD-8A6537F40002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6-03T06:11:41Z</dcterms:modified>
  <cp:revision>288</cp:revision>
  <dc:subject/>
  <dc:title>제6장 데이터 웨어하우스의 관리</dc:title>
</cp:coreProperties>
</file>