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6583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27819-A602-4FD9-B54B-D30AA4DAB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F091D-46AF-4C6D-9745-0423E2885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3F63C-B33D-402B-8695-FA3609CB3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1640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4772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1640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4772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A9DD8-5F24-4B1D-AD62-A3839A9FE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D4A67-2FF3-47E0-AB85-E8C9D8922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18F91-E222-43B0-AED5-16DCA2826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FB46C-F969-483C-9B48-45B0DFC0B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51D2D-A10F-4B3B-9448-2E781E980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6C589-3400-4102-A017-293A70E43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42640" y="685440"/>
            <a:ext cx="77929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DFDC2-02D4-4410-83D6-AD9B32EB3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744F2-6DC7-4A42-8767-7672245AF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100B6-1F8A-4C03-BEE5-E0CFF06FA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1D28A-93B3-4D7E-8426-BEBF2FAED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12C60-1CBA-40E5-BEA6-18C538AFE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5E2A6-7E66-4305-B18A-CDA92A59F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3A06C-8CB9-44FB-98B8-D0FAB9F04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41640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14772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44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41640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14772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10CD9-1FAB-4AEE-A0F4-52D6EDA70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36C45-7E45-49E9-B217-E5C0EF588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E04A3-0775-4C00-BF71-6626A3050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A9CC9-2A5D-4A34-A352-2EA8D43DE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42640" y="685440"/>
            <a:ext cx="77929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BDFF1-2579-4E7B-8DC1-CA963A908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38042-5531-4E1A-924A-500165835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0CAF2-5CA2-4969-9A34-B1A3155B6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07E1C-8AC7-4C84-A223-B495FE15B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33360" y="720720"/>
            <a:ext cx="438120" cy="474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16040" y="720720"/>
            <a:ext cx="3286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114300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26920" y="1143000"/>
            <a:ext cx="36864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57320" y="12542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77880" y="61272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58920" y="1403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52280" y="6324480"/>
            <a:ext cx="1905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ahoma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200040" y="6324480"/>
            <a:ext cx="2895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ahoma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ahoma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92382-CFFC-456B-8100-51BD7594EB5C}" type="slidenum"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c1c1c"/>
                </a:solidFill>
                <a:latin typeface="Tahoma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c1c1c"/>
                </a:solidFill>
                <a:latin typeface="Tahoma"/>
                <a:ea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c1c1c"/>
                </a:solidFill>
                <a:latin typeface="Tahoma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c1c1c"/>
                </a:solidFill>
                <a:latin typeface="Tahoma"/>
                <a:ea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c1c1c"/>
                </a:solidFill>
                <a:latin typeface="Tahoma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21D05-A322-4BE9-9BA9-6D85068E5E01}" type="slidenum">
              <a:rPr b="0" lang="ko-KR" sz="1400" spc="-1" strike="noStrike">
                <a:solidFill>
                  <a:srgbClr val="1c1c1c"/>
                </a:solidFill>
                <a:latin typeface="Tahoma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440" y="1294920"/>
            <a:ext cx="807732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400" spc="-1" strike="noStrike">
                <a:solidFill>
                  <a:srgbClr val="333399"/>
                </a:solidFill>
                <a:latin typeface="Tahoma"/>
                <a:ea typeface="굴림"/>
              </a:rPr>
              <a:t>제 </a:t>
            </a:r>
            <a:r>
              <a:rPr b="0" lang="ko-KR" sz="5400" spc="-1" strike="noStrike">
                <a:solidFill>
                  <a:srgbClr val="333399"/>
                </a:solidFill>
                <a:latin typeface="Tahoma"/>
                <a:ea typeface="굴림"/>
              </a:rPr>
              <a:t>8 </a:t>
            </a:r>
            <a:r>
              <a:rPr b="0" lang="ko-KR" sz="5400" spc="-1" strike="noStrike">
                <a:solidFill>
                  <a:srgbClr val="333399"/>
                </a:solidFill>
                <a:latin typeface="Tahoma"/>
                <a:ea typeface="굴림"/>
              </a:rPr>
              <a:t>장</a:t>
            </a:r>
            <a:br>
              <a:rPr sz="5400"/>
            </a:br>
            <a:r>
              <a:rPr b="0" lang="ko-KR" sz="5400" spc="-1" strike="noStrike">
                <a:solidFill>
                  <a:srgbClr val="333399"/>
                </a:solidFill>
                <a:latin typeface="Tahoma"/>
                <a:ea typeface="굴림"/>
              </a:rPr>
              <a:t>데이터베이스 마켓팅</a:t>
            </a:r>
            <a:r>
              <a:rPr b="0" lang="en-US" sz="5400" spc="-1" strike="noStrike">
                <a:solidFill>
                  <a:srgbClr val="333399"/>
                </a:solidFill>
                <a:latin typeface="Tahoma"/>
                <a:ea typeface="굴림"/>
              </a:rPr>
              <a:t> 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600" y="4952520"/>
            <a:ext cx="830592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Jong Soo Pa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jpark@cs.sungshin.ac.k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234CD-069B-4519-AC4F-97E2DA3137A6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데이터 마이닝과 데이터 웨어하우스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마이닝은 </a:t>
            </a:r>
            <a:r>
              <a:rPr b="0" lang="ko-KR" sz="2800" spc="-1" strike="noStrike">
                <a:solidFill>
                  <a:srgbClr val="ff0000"/>
                </a:solidFill>
                <a:latin typeface="Tahoma"/>
                <a:ea typeface="굴림"/>
              </a:rPr>
              <a:t>정제된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800" spc="-1" strike="noStrike">
                <a:solidFill>
                  <a:srgbClr val="ff0000"/>
                </a:solidFill>
                <a:latin typeface="Tahoma"/>
                <a:ea typeface="굴림"/>
              </a:rPr>
              <a:t>데이터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가 필수이다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스에는 정제된 데이터가 이미 존재한다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C6EF0-38AA-4E49-969B-3FB3894AA6ED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데이터 마이닝의 이해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현업 전문가가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OLAP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도구를 이용해 분석하는 과정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156 – 158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페이지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BAB2F-8C1A-45B9-84F3-7C3C6CD7392B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데이터 마이닝의 과정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의 수집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정제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의 준비 작업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트레이닝 셑과 테스트 셑을 결정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마이닝 모델 작성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0000"/>
                </a:solidFill>
                <a:latin typeface="Tahoma"/>
                <a:ea typeface="굴림"/>
              </a:rPr>
              <a:t>적용과 테스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External evaluation: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실제 데이터와 테스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실제 구축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실제 데이터를 적용해보고 그 결과를 분석한다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34A88-0D5D-4E63-ACC2-33A0FF20E7EB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데이터 마이닝 모델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Predictive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lassification: decision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Descriptive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연관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association)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기법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10E08-795A-4B4F-B0F0-C508DFD9AE42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Decision tree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에 의한 데이터 마이닝 분석의 예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의 준비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Root) node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의 결정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불만 신고에 의해서 해지자를 먼저 고른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Internal) node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의 결정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연체 회수를 가지고 나눈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Node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를 결정하는 방법이 중요하다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결과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: 160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페이지 그림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  <a:ea typeface="굴림"/>
              </a:rPr>
              <a:t>Rule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흰색 노드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회색 노드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검정색 노드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8A8A0-D3D2-4883-88DB-EDF8D0F125DA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데이터 마이닝을 할 때 고려 사항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경험적인 규칙 발견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데이터 마이닝 전문가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현업 전문가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수많은 시행착오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발견 후에도 끊임없이 결과 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마이닝 도구는 쉬운 것이 아니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전문가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데이터의 통계적 분석에 경험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마이닝의 장점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결과 확실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ROI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도 분명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특정 분야를 중심으로 확산 예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손쉬운 도구의 활성화 </a:t>
            </a:r>
            <a:r>
              <a:rPr b="0" lang="ko-KR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Visu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9CC11-548A-4E28-BBCF-D02A2F67D916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제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8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장 데이터베이스 마케팅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베이스 마케팅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베이스 마케팅을 현실화한 데이터 웨어하우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고객 데이터베이스 구축 방법론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마이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마이닝을 해야만 하는 이유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굴림"/>
              </a:rPr>
              <a:t>DM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과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굴림"/>
              </a:rPr>
              <a:t>D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마이닝의 이해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마이닝의 과정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마이닝 모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23669-E91B-4EA9-9FE3-60DEFF3CCE73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</a:rPr>
              <a:t>1.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데이터베이스 마케팅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과학적인 경영기법을 도입하려는 시도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B Marketing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은 이미 활용되고 있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스와 데이터베이스 마케팅 접목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333cc"/>
                </a:solidFill>
                <a:latin typeface="Tahoma"/>
                <a:ea typeface="굴림"/>
              </a:rPr>
              <a:t>고객 개인과의 관계를 중시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800" spc="-1" strike="noStrike">
                <a:solidFill>
                  <a:srgbClr val="ff0000"/>
                </a:solidFill>
                <a:latin typeface="Tahoma"/>
                <a:ea typeface="굴림"/>
              </a:rPr>
              <a:t>1:1 </a:t>
            </a:r>
            <a:r>
              <a:rPr b="0" lang="ko-KR" sz="2800" spc="-1" strike="noStrike">
                <a:solidFill>
                  <a:srgbClr val="ff0000"/>
                </a:solidFill>
                <a:latin typeface="Tahoma"/>
                <a:ea typeface="굴림"/>
              </a:rPr>
              <a:t>마케팅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고객의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life time value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를 최대화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고객 유지 마케팅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Retention Marke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고객 이탈률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efection rate)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을 감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77DA2-71EB-409C-8968-E53FDFDE2252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DB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마켓팅을 현실화한 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DW(1/2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기존의 데이터베이스 마케팅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통계적 방식과 프로그램을 개발하는 방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굴림"/>
              </a:rPr>
              <a:t>Sampl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방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에 의존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분석 결과에 오차 가능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분석시에 주로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tch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로 처리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스 구축 후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DB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마케팅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굴림"/>
              </a:rPr>
              <a:t>OLA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도구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를 사용하여 다양한 분석을 다차원으로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OLAP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도구는 비정형화된 분석에 매우 강하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는 실제 데이터를 가지므로 즉시 데이터 분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090FA-E4E0-4149-A674-027BF44E6597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DB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마켓팅을 현실화한 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DW(2/2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베이스 마케팅을 위한 데이터 웨어하우스 기본 구조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: 147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페이지 그림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OLTP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굴림"/>
              </a:rPr>
              <a:t>OD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ROLAP, MOLAP, DM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TM, DM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굴림"/>
              </a:rPr>
              <a:t> ODS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  <a:ea typeface="굴림"/>
              </a:rPr>
              <a:t>(feedbac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백화점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카드 회사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은행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보험 회사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통신 회사 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MOLAP sol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RFM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기법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회귀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추세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80/20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HAID(Chi-square Automatic Interaction Detector)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분석 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기본 수식이 주어지면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MDB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를 즉시 분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E57EF-A0E8-4314-BAC5-F496C0F2B2AF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고객 데이터베이스 구축 방법론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단계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고객에 관한 정보를 체계적으로 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데이터베이스화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한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단계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고객 데이터베이스로부터 원하는 정보를 검색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가공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분석하여 </a:t>
            </a:r>
            <a:r>
              <a:rPr b="0" lang="ko-KR" sz="2400" spc="-1" strike="noStrike">
                <a:solidFill>
                  <a:srgbClr val="000099"/>
                </a:solidFill>
                <a:latin typeface="Tahoma"/>
                <a:ea typeface="굴림"/>
              </a:rPr>
              <a:t>필요한 데이터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추출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한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단계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목표 고객과 관련 데이터를 이용하여 효과적인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굴림"/>
              </a:rPr>
              <a:t>TM/DM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을 실시한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4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단계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99"/>
                </a:solidFill>
                <a:latin typeface="Tahoma"/>
                <a:ea typeface="굴림"/>
              </a:rPr>
              <a:t>마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케</a:t>
            </a:r>
            <a:r>
              <a:rPr b="0" lang="ko-KR" sz="2400" spc="-1" strike="noStrike">
                <a:solidFill>
                  <a:srgbClr val="000099"/>
                </a:solidFill>
                <a:latin typeface="Tahoma"/>
                <a:ea typeface="굴림"/>
              </a:rPr>
              <a:t>팅 결과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400" spc="-1" strike="noStrike">
                <a:solidFill>
                  <a:srgbClr val="000099"/>
                </a:solidFill>
                <a:latin typeface="Tahoma"/>
                <a:ea typeface="굴림"/>
              </a:rPr>
              <a:t>데이터베이스화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하여 관리함으로써 장기적인 마케팅 의사결정을 지원한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9885B-BBEF-4E6D-8ED8-9EE13F75046E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</a:rPr>
              <a:t>2.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데이터 마이닝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마이닝의 사용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초기 단계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마이닝을 위한 최적의 시스템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기업의 요구가 고객 관리에 중점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마이닝이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특정 분야에서 데이터의 상관관계를 분석하여 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비즈니스에 유용한 법칙을 발견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마이닝 전문가는 고객 데이터 내용을 잘 알아야 된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사용예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고객의 성향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해지 고객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신용카드의 위조 사용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fraud)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분석 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D029E-AFD0-4738-AC68-A8494A76BB07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데이터 마이닝을 해야만 하는 이유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M :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의 상관 관계를 분석하여 미래 예측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IT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환경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스가 광범위하게 구축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상에서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M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을 이용하여 복잡한 데이터 분석 요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구축 난이도와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usiness Pay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굴림"/>
              </a:rPr>
              <a:t>소규모의 투자로도 많고 빠른 효과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응용 분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주로 데이터베이스 마케팅 분야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통신회사의 해지자 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유통 업체의 장바구니 분석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market basket analysi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신용 카드 회사의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fraud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일반 회사의 광고 효과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신제품 개발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고객 성향 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F0BC7-7A97-448C-BE0B-4731FCDC97FA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데이터 마이닝에 대한 </a:t>
            </a:r>
            <a:r>
              <a:rPr b="0" lang="ko-KR" sz="3600" spc="-1" strike="noStrike">
                <a:solidFill>
                  <a:srgbClr val="ff0000"/>
                </a:solidFill>
                <a:latin typeface="Tahoma"/>
                <a:ea typeface="굴림"/>
              </a:rPr>
              <a:t>잘못된 인식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마이닝 도구를 사용하면 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자동적으로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비즈니스의 법칙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rule)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을 발견하고 즉각적으로 활용할 수 있다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누구나 데이터 마이닝 도구만 있으면 데이터 마이닝을 할 수 있다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마이닝은 통계와 다른 인공지능 기법을 이용한 새로운 기술이다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마이닝은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OLTP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에 있는 데이터를 변환하지 않고 즉각적으로 분석할 수 있다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마이닝에는 별도의 하드웨어가 필요없이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PC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만으로도 가능하다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2434C-7C11-425D-9C5A-D4CDE77E63BF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19T04:38:52Z</dcterms:created>
  <dc:creator>Jong Soo Park</dc:creator>
  <dc:description/>
  <dc:language>en-US</dc:language>
  <cp:lastModifiedBy>Jong Soo Park</cp:lastModifiedBy>
  <cp:lastPrinted>1999-09-10T20:38:56Z</cp:lastPrinted>
  <dcterms:modified xsi:type="dcterms:W3CDTF">2002-05-20T06:03:39Z</dcterms:modified>
  <cp:revision>253</cp:revision>
  <dc:subject/>
  <dc:title>제6장 데이터 웨어하우스의 관리</dc:title>
</cp:coreProperties>
</file>