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EADB-F3A3-461E-9586-C127EFC4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B31C-F76F-410E-8D28-0047AAB4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9FB3-4AE7-4932-A995-D319AE0C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B4E7-9F49-4DA7-AE90-A270EB7A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48C6-D533-46D7-AF70-2F8C0AEA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969A-C203-455F-9FB0-51B35123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A016-FEA1-4B39-A9B8-7844C08D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4F8B-85D5-4884-8CAF-84C36C2F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338C-8E37-4241-814A-5E4EC276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249C-D89F-4D26-8806-711BCAE3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75F8-EC42-4A42-9706-914547FD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4689-C89E-43E3-8CF2-360B10F1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03F8-EC34-4755-90E3-CBCCAFB2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B266-BD3B-46B6-9305-31676B89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1E7F-6670-4665-AC72-7962A403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E7DC-E4C8-4F41-A4CA-E094022B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A170-4513-4569-8177-3867349C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06E8-997C-4518-AB64-41A90040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ECB6-6232-4761-9E6B-8E30EDE7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301-3006-4D92-9140-8E24CCB5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B55-13DE-4262-9065-1790B025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7676-E43B-453B-BDE2-216278EF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F322-64FD-4B7C-84F3-74C9FDEE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64A4-5B70-4B9C-82A3-DF9D060E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3FA9-9EA7-4B2B-9135-90F36E5DD8BB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462C-644F-4302-B7A1-49FACB8F40E1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1E0B-425B-4224-97B7-7BCC9A841692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7BB7-7264-4A59-99A4-BC747075B9A0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6761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를 위한 데이터베이스 설계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: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기본요건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5029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E33E-7AED-4639-8B08-D58E7686D21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ACE895-48F8-4A1D-97F2-68FF312C1FE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신뢰할 수 있는 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관성 있는 해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두번째 중요한 요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첫번째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순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는 일괄 형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atch format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으로 적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클린징 또는 변환 과정이 필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무결성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참조 무결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형 스키마에 함축된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차 키 외부 키 참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imary key foreign key referen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다음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결합 경로의 명확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내부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 Opera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E326-E321-44D3-BD77-6B2B532AFDD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A0274-5469-4655-A310-562F74C168C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9_3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613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D20F-385F-4513-AB68-D4690EB7D98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4F7CB-CF17-4405-B224-ED74238E1B6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조회 처리 속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세 번째 중요한 요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분석가들의 조회를 신속히 처리하고 그들의 사고 흐름을 따라잡을 수 있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안정된 고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ko-KR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서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필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설계 시에 고려해야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처리 속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각기 다른 표 열 위에 구축된 색인의 유형과 색인 수의 함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각 차원 표의 모든 열마다 색인을 붙이는 것이 훌륭한 전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각기 다른 차원에 대해 각기  다른 유형의 색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207D-0EC6-4088-939F-C5FCA08B0F2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EBA482-8FB4-4690-A16E-5089B03A935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적재 처리와 성능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네 번째 중요한 요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설계에서 더 결정적인 측정 기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에서 웨어하우스로 데이터를 적재하는 시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몇 시간 대 며칠의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재 속도는 웨어하우스 설계의 다른 기본 원칙을 고수하면 얻을 수 있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모델링시 성형 스키마 스타일 단순성의 원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표 구조의 단순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깨끗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참조 무결성 등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FB10-3EE1-4333-8A5E-0FE8A91389B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897CB-7076-4DA2-8CB3-D5D93384BE0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성형의 갖가지 형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스키마의 점증하는 복잡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utboard table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ulti-fact star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20B2-2C3E-45FE-BFB7-9730B1D2A8D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C9762-D0BF-4C24-BEDE-2922D207E1B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utboard Tab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mension Tab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외부 키 참조를 통해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utboard tab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작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utrigger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라 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내부 차원에 너무 많은 부담을 주게 될 데이터를 격리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-&gt;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설계 단순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9-4 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DE00-18AE-4035-AB4C-AFD32BAA928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9B8D6-538F-463C-A83F-18D656C6877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9_4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848720" cy="605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EDAA-C9E0-4E16-9142-248B04F42FB3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D0915-40A2-435E-96E9-8AC764BA29D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사실 표 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치 체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대기업 전반에 걸쳐 종종 가치 체인의 부분들을 형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조직체를 통틀어 제품 또는 서비스의 흐름을 반영하는 일련의 연결된 업무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련의 공유 차원들을 갖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사실 “군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family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다음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sl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3960-810F-4527-8B00-9C9CFEEBA97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C4051-A5F5-4DF8-884E-055027A06A7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9_5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696080" cy="659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5E1D-9281-4F28-BBBC-41FFB2B16F72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FBF5AC-C556-486C-8C3E-1F7F9BF7724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다성형 사실 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원 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 키의 어떤 조합이 사실 표에서 둘 이상의 행을 가리킬 경우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-&gt;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ulti-star sch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9-6 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C1C5-0F71-4201-B112-E410FAFA245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A2E4C-971D-4A6A-B211-BDB9C1917B0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9 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베이스 설계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본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세가지 규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간단하게 하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간단하게 하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간단하게 하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스키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hema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시각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속도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조회 시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자 데이터 적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가 변경되지 않고 무결성이 엄격히 유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294F-82AD-406A-B265-B0831EFB345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601D6-48DB-4787-99A2-788B8C302D7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9_6" descr="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6532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FCB0-5481-4A76-B5D3-CC458CA7BCD9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ABE8A-B126-4035-9B71-98D589D9D69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onceptual Modeling of Data Warehou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85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odeling data warehouses: dimensions &amp; mea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Star sche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A fact table in the middle connected to a set of dimension tabl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Snowflake sche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  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A refinement of star schema where some dimensional hierarchy i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굴림"/>
              </a:rPr>
              <a:t>normalized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 into a set of smaller dimension tab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, forming a shape similar to snowfl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Fact constella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  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Multiple fact tables share dimension tab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, viewed as a collection of stars, therefore called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굴림"/>
              </a:rPr>
              <a:t>galaxy sche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or fact constell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B9C9-43BF-481B-B528-06FFB7BDE94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BAAA9-4C8A-4B44-A67B-BC84CA40883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9200" y="782640"/>
            <a:ext cx="72266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xample of Star Sche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419880" y="1676160"/>
            <a:ext cx="249552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548160" y="316224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7800" y="1295280"/>
            <a:ext cx="1812600" cy="2152800"/>
            <a:chOff x="307800" y="1295280"/>
            <a:chExt cx="1812600" cy="2152800"/>
          </a:xfrm>
        </p:grpSpPr>
        <p:sp>
          <p:nvSpPr>
            <p:cNvPr id="140" name=""/>
            <p:cNvSpPr/>
            <p:nvPr/>
          </p:nvSpPr>
          <p:spPr>
            <a:xfrm>
              <a:off x="307800" y="1709640"/>
              <a:ext cx="1812600" cy="1738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_of_the_wee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qua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520" y="1295280"/>
              <a:ext cx="636120" cy="397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606360" y="3867120"/>
            <a:ext cx="1902600" cy="1873800"/>
            <a:chOff x="6606360" y="3867120"/>
            <a:chExt cx="1902600" cy="1873800"/>
          </a:xfrm>
        </p:grpSpPr>
        <p:sp>
          <p:nvSpPr>
            <p:cNvPr id="143" name=""/>
            <p:cNvSpPr/>
            <p:nvPr/>
          </p:nvSpPr>
          <p:spPr>
            <a:xfrm>
              <a:off x="6606360" y="4276800"/>
              <a:ext cx="1902600" cy="1464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province_or_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un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06720" y="3867120"/>
              <a:ext cx="10051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448800" y="2279520"/>
            <a:ext cx="186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ales Fa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48160" y="269712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2743200"/>
            <a:ext cx="2057400" cy="3974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76600" y="3192480"/>
            <a:ext cx="2028960" cy="397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48160" y="362736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76240" y="3638520"/>
            <a:ext cx="2080800" cy="39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branch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48160" y="409104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75160" y="4114800"/>
            <a:ext cx="2077920" cy="3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ocation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48160" y="455616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75880" y="4606920"/>
            <a:ext cx="200196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48160" y="5021280"/>
            <a:ext cx="206532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76240" y="505152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48160" y="5486400"/>
            <a:ext cx="206532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57880" y="549756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vg_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5905440"/>
            <a:ext cx="1219320" cy="39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771640" y="4781160"/>
            <a:ext cx="770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752560" y="5324040"/>
            <a:ext cx="78912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752560" y="5692680"/>
            <a:ext cx="90504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328840" y="394956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2133360" y="2514240"/>
            <a:ext cx="1446120" cy="485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80000" y="4356000"/>
            <a:ext cx="1040040" cy="3873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580000" y="2709360"/>
            <a:ext cx="1077840" cy="6778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613200" y="1603080"/>
            <a:ext cx="1431720" cy="1910880"/>
            <a:chOff x="6613200" y="1603080"/>
            <a:chExt cx="1431720" cy="1910880"/>
          </a:xfrm>
        </p:grpSpPr>
        <p:sp>
          <p:nvSpPr>
            <p:cNvPr id="168" name=""/>
            <p:cNvSpPr/>
            <p:nvPr/>
          </p:nvSpPr>
          <p:spPr>
            <a:xfrm>
              <a:off x="6613200" y="2049840"/>
              <a:ext cx="1431720" cy="1464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23440" y="1603080"/>
              <a:ext cx="72468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844200" y="3886200"/>
            <a:ext cx="1499760" cy="1383120"/>
            <a:chOff x="844200" y="3886200"/>
            <a:chExt cx="1499760" cy="1383120"/>
          </a:xfrm>
        </p:grpSpPr>
        <p:sp>
          <p:nvSpPr>
            <p:cNvPr id="171" name=""/>
            <p:cNvSpPr/>
            <p:nvPr/>
          </p:nvSpPr>
          <p:spPr>
            <a:xfrm>
              <a:off x="924480" y="4353840"/>
              <a:ext cx="1419480" cy="915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4200" y="3886200"/>
              <a:ext cx="101124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B0E0-18B1-4CBA-BB0C-39561BE22B3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16263-9301-4267-A169-168C6E3E73C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49200" y="782640"/>
            <a:ext cx="72266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xample of Snowflake Sche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3317760" y="310500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07800" y="1295280"/>
            <a:ext cx="1812600" cy="2152800"/>
            <a:chOff x="307800" y="1295280"/>
            <a:chExt cx="1812600" cy="2152800"/>
          </a:xfrm>
        </p:grpSpPr>
        <p:sp>
          <p:nvSpPr>
            <p:cNvPr id="176" name=""/>
            <p:cNvSpPr/>
            <p:nvPr/>
          </p:nvSpPr>
          <p:spPr>
            <a:xfrm>
              <a:off x="307800" y="1709640"/>
              <a:ext cx="1812600" cy="1738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_of_the_wee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qua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8520" y="1295280"/>
              <a:ext cx="636120" cy="397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869440" y="3809880"/>
            <a:ext cx="1369800" cy="1321200"/>
            <a:chOff x="5869440" y="3809880"/>
            <a:chExt cx="1369800" cy="1321200"/>
          </a:xfrm>
        </p:grpSpPr>
        <p:sp>
          <p:nvSpPr>
            <p:cNvPr id="179" name=""/>
            <p:cNvSpPr/>
            <p:nvPr/>
          </p:nvSpPr>
          <p:spPr>
            <a:xfrm>
              <a:off x="5870160" y="4215600"/>
              <a:ext cx="1369080" cy="91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69440" y="3809880"/>
              <a:ext cx="10051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272400" y="2152800"/>
            <a:ext cx="186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ales Fa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7760" y="263988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1240" y="2685960"/>
            <a:ext cx="2057400" cy="3974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46560" y="3135240"/>
            <a:ext cx="2028960" cy="397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7760" y="357012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45840" y="3581280"/>
            <a:ext cx="2080800" cy="39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branch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17760" y="403380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45120" y="4057560"/>
            <a:ext cx="2077920" cy="3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ocation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7760" y="449892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45480" y="4549680"/>
            <a:ext cx="200196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17760" y="496404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45840" y="499428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17760" y="542916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27480" y="544032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vg_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5867280"/>
            <a:ext cx="1218960" cy="39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590920" y="4723920"/>
            <a:ext cx="769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571840" y="5267160"/>
            <a:ext cx="788760" cy="5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571840" y="5635800"/>
            <a:ext cx="90468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133720" y="388620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2133360" y="2514240"/>
            <a:ext cx="1446120" cy="485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4267080"/>
            <a:ext cx="457200" cy="5335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334120" y="2819160"/>
            <a:ext cx="609480" cy="5331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946840" y="1526760"/>
            <a:ext cx="1367640" cy="1910880"/>
            <a:chOff x="5946840" y="1526760"/>
            <a:chExt cx="1367640" cy="1910880"/>
          </a:xfrm>
        </p:grpSpPr>
        <p:sp>
          <p:nvSpPr>
            <p:cNvPr id="204" name=""/>
            <p:cNvSpPr/>
            <p:nvPr/>
          </p:nvSpPr>
          <p:spPr>
            <a:xfrm>
              <a:off x="5946840" y="1973520"/>
              <a:ext cx="1367640" cy="1464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56360" y="1526760"/>
              <a:ext cx="72468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15600" y="3886200"/>
            <a:ext cx="1499760" cy="1383120"/>
            <a:chOff x="615600" y="3886200"/>
            <a:chExt cx="1499760" cy="1383120"/>
          </a:xfrm>
        </p:grpSpPr>
        <p:sp>
          <p:nvSpPr>
            <p:cNvPr id="207" name=""/>
            <p:cNvSpPr/>
            <p:nvPr/>
          </p:nvSpPr>
          <p:spPr>
            <a:xfrm>
              <a:off x="695880" y="4353840"/>
              <a:ext cx="1419480" cy="915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5600" y="3886200"/>
              <a:ext cx="101124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699320" y="1984680"/>
            <a:ext cx="1441080" cy="984960"/>
            <a:chOff x="7699320" y="1984680"/>
            <a:chExt cx="1441080" cy="984960"/>
          </a:xfrm>
        </p:grpSpPr>
        <p:sp>
          <p:nvSpPr>
            <p:cNvPr id="210" name=""/>
            <p:cNvSpPr/>
            <p:nvPr/>
          </p:nvSpPr>
          <p:spPr>
            <a:xfrm>
              <a:off x="7708680" y="2328480"/>
              <a:ext cx="1431720" cy="641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99320" y="1984680"/>
              <a:ext cx="116532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 flipV="1">
            <a:off x="7238880" y="2971440"/>
            <a:ext cx="533520" cy="3049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7547040" y="4800600"/>
            <a:ext cx="1712520" cy="1471680"/>
            <a:chOff x="7547040" y="4800600"/>
            <a:chExt cx="1712520" cy="1471680"/>
          </a:xfrm>
        </p:grpSpPr>
        <p:sp>
          <p:nvSpPr>
            <p:cNvPr id="214" name=""/>
            <p:cNvSpPr/>
            <p:nvPr/>
          </p:nvSpPr>
          <p:spPr>
            <a:xfrm>
              <a:off x="7550640" y="5206320"/>
              <a:ext cx="1708920" cy="106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province_or_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u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47040" y="4800600"/>
              <a:ext cx="5659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162920" y="5105520"/>
            <a:ext cx="457200" cy="5331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43B5-272B-41CD-A0CC-51BE1894E74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3A821-EEBB-4DD5-9CB3-8CF8DC00636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4468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xample of Fact Constell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3048120"/>
            <a:ext cx="1608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32200" y="1219320"/>
            <a:ext cx="1631520" cy="1967040"/>
            <a:chOff x="232200" y="1219320"/>
            <a:chExt cx="1631520" cy="1967040"/>
          </a:xfrm>
        </p:grpSpPr>
        <p:sp>
          <p:nvSpPr>
            <p:cNvPr id="220" name=""/>
            <p:cNvSpPr/>
            <p:nvPr/>
          </p:nvSpPr>
          <p:spPr>
            <a:xfrm>
              <a:off x="232560" y="1633680"/>
              <a:ext cx="1631160" cy="15526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_of_the_we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on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qua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y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2200" y="1219320"/>
              <a:ext cx="593640" cy="3668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108760" y="4038480"/>
            <a:ext cx="1712160" cy="1718640"/>
            <a:chOff x="5108760" y="4038480"/>
            <a:chExt cx="1712160" cy="1718640"/>
          </a:xfrm>
        </p:grpSpPr>
        <p:sp>
          <p:nvSpPr>
            <p:cNvPr id="223" name=""/>
            <p:cNvSpPr/>
            <p:nvPr/>
          </p:nvSpPr>
          <p:spPr>
            <a:xfrm>
              <a:off x="5112000" y="4447800"/>
              <a:ext cx="1708920" cy="130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province_or_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u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08760" y="4038480"/>
              <a:ext cx="924120" cy="366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740320" y="2133720"/>
            <a:ext cx="170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ales Fact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2590920"/>
            <a:ext cx="1600200" cy="45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95480" y="2666880"/>
            <a:ext cx="1602000" cy="3668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3124080"/>
            <a:ext cx="1600200" cy="366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3505320"/>
            <a:ext cx="160020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3505320"/>
            <a:ext cx="1600200" cy="641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branch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3962520"/>
            <a:ext cx="1600200" cy="45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0800" y="3981600"/>
            <a:ext cx="160056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ocation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60560" y="4419720"/>
            <a:ext cx="1635120" cy="45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1880" y="4473720"/>
            <a:ext cx="158868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60560" y="4876920"/>
            <a:ext cx="1635120" cy="46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2960" y="4917960"/>
            <a:ext cx="159300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s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60560" y="5334120"/>
            <a:ext cx="1635120" cy="46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72080" y="5364000"/>
            <a:ext cx="159624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avg_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5715000"/>
            <a:ext cx="1219320" cy="366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084400" y="4647960"/>
            <a:ext cx="770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065320" y="5190840"/>
            <a:ext cx="78912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065320" y="5559480"/>
            <a:ext cx="90504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641600" y="381636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1905120" y="2362320"/>
            <a:ext cx="914400" cy="3808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4267080"/>
            <a:ext cx="533520" cy="3812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495680" y="2743200"/>
            <a:ext cx="762120" cy="52560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186520" y="1527480"/>
            <a:ext cx="1293120" cy="1725120"/>
            <a:chOff x="5186520" y="1527480"/>
            <a:chExt cx="1293120" cy="1725120"/>
          </a:xfrm>
        </p:grpSpPr>
        <p:sp>
          <p:nvSpPr>
            <p:cNvPr id="248" name=""/>
            <p:cNvSpPr/>
            <p:nvPr/>
          </p:nvSpPr>
          <p:spPr>
            <a:xfrm>
              <a:off x="5186520" y="1943280"/>
              <a:ext cx="1293120" cy="1309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39240" y="1527480"/>
              <a:ext cx="631800" cy="398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10320" y="3962520"/>
            <a:ext cx="1279440" cy="1216440"/>
            <a:chOff x="310320" y="3962520"/>
            <a:chExt cx="1279440" cy="1216440"/>
          </a:xfrm>
        </p:grpSpPr>
        <p:sp>
          <p:nvSpPr>
            <p:cNvPr id="251" name=""/>
            <p:cNvSpPr/>
            <p:nvPr/>
          </p:nvSpPr>
          <p:spPr>
            <a:xfrm>
              <a:off x="310320" y="4356360"/>
              <a:ext cx="1279440" cy="822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960" y="3962520"/>
              <a:ext cx="80388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7012080" y="2495520"/>
            <a:ext cx="1608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6560" y="1581120"/>
            <a:ext cx="20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hipping Fact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12080" y="2038320"/>
            <a:ext cx="160020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12080" y="2114640"/>
            <a:ext cx="1601640" cy="3668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12080" y="2571840"/>
            <a:ext cx="1600200" cy="366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12080" y="2952720"/>
            <a:ext cx="160020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12080" y="2952720"/>
            <a:ext cx="1600200" cy="366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hipper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12080" y="3409920"/>
            <a:ext cx="160020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007760" y="3429000"/>
            <a:ext cx="159948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from_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77160" y="3867120"/>
            <a:ext cx="1635120" cy="45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07760" y="3943440"/>
            <a:ext cx="156420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o_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77160" y="4324320"/>
            <a:ext cx="1635120" cy="46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09200" y="4365720"/>
            <a:ext cx="158076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77160" y="4781520"/>
            <a:ext cx="1635120" cy="46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90840" y="4811760"/>
            <a:ext cx="163008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hip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6629400" y="152352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742840" y="152388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905120" y="1523880"/>
            <a:ext cx="914400" cy="457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6553080" y="2666880"/>
            <a:ext cx="533520" cy="76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248160" y="3657600"/>
            <a:ext cx="68580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477120" y="419112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991720" y="320040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7618320" y="5410080"/>
            <a:ext cx="1332360" cy="1458720"/>
            <a:chOff x="7618320" y="5410080"/>
            <a:chExt cx="1332360" cy="1458720"/>
          </a:xfrm>
        </p:grpSpPr>
        <p:sp>
          <p:nvSpPr>
            <p:cNvPr id="276" name=""/>
            <p:cNvSpPr/>
            <p:nvPr/>
          </p:nvSpPr>
          <p:spPr>
            <a:xfrm>
              <a:off x="7625520" y="5802840"/>
              <a:ext cx="1325160" cy="10659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18320" y="5410080"/>
              <a:ext cx="85428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 flipH="1">
            <a:off x="8610120" y="4800600"/>
            <a:ext cx="381240" cy="1066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610480" y="32004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5866920" y="5790960"/>
            <a:ext cx="175284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B27A-6F37-42CD-BB23-E02DF688E74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D5A7D4-9F5C-4AFB-BFAC-5BA01B22A04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요약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본적인 설계 요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순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일관성과 정확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처리 속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적재 속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성공적인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비스를 제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첫번째 설계는 매우 기본적이 되게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들의 의견을 들은 뒤 반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일관성 있고 가치 있는 정보 제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0AEC-6C23-421D-A62E-009099CB1DD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5AAAB-CFDF-4CD0-B68C-12F4553E678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데이터베이스의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가지 기본적인 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스키마는 간단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는 깨끗하고 일관성이 있으며 정확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회처리는 신속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를 데이터베이스에 상당히 빠르게 적재할 수 있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5807-A0C3-4062-A98A-44407D67F2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49406F-75FB-4522-8EB8-F1AE9E58FDD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순환적 결합 경로를 가진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OLTP 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스키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9_1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467840" cy="497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E481-17E4-4B31-A3E4-1E57DD8ECBE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C7137-D6EA-4297-A81C-1A0DBF9C643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단순성 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Schema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의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기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들이 편리하도록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A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나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MIS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요원들에게 이익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되도록 설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Sch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두 개의 표를 결합하는 지정된 경로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 Opera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설계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가의 업무 요건들을 평가 – “차원”을 파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 사용되고 있는 보고서들을 분석 –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집단이 사용하는 “표”를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99"/>
                </a:solidFill>
                <a:latin typeface="Tahoma"/>
                <a:ea typeface="굴림"/>
              </a:rPr>
              <a:t>실제 차원과 업무 자체의 조건에 바탕을 둔 직관적인 데이터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B09E-1ABC-4AB3-A81D-64FBC8E067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0B7C1-9C03-4060-9F2B-BD95F6CD42A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성형 스키마의 구성요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순하고 직관적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나의 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St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에 관한 모든 수집된 사실과 숫자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별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뾰족점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차원들을 설명하는 일군의 표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9-2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실 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원 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4E1E-5CAC-4E7A-974C-D0F40B25C5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DB89E-D77A-435D-B4C1-BFB4A9F6387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간단한 성형 스키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9_2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010280" cy="545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7085-A201-472B-9B25-231BC33DECC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2C7A3-0927-4C3E-BBFD-140794D4247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사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장 규모가 큰 – 수백만 개 또는 수억 개의 행이 포함된 – 중앙에 있는 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측정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업무 값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공간의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95%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차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뼈만 추린” 대부분 숫자로 된 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에 저장된 사실들은 분석가가 추적할 필요가 있는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실제 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판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예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선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예약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험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레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C011-7348-4902-B039-89F1F840FA0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40F9E-EA6C-4F06-8CDE-A1E2A44DF64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차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내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의 “기정 사실”일 가능성이 많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보고서의 행 제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숫자 데이터보다는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문자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사용하는 경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가 필요로 하는 디스크 공간은 비교적 적게 차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기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제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품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상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판매업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구통계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홍보활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AFEC-A237-4E4D-9F26-EDED563D6BD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5D5C2-E45A-4266-8664-D8C11A2EF3C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Jong Soo Park</cp:lastModifiedBy>
  <cp:lastPrinted>1999-09-10T20:38:56Z</cp:lastPrinted>
  <dcterms:modified xsi:type="dcterms:W3CDTF">2002-06-03T08:22:04Z</dcterms:modified>
  <cp:revision>301</cp:revision>
  <dc:subject/>
  <dc:title>No Slide Title</dc:title>
</cp:coreProperties>
</file>