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2521-4106-44A8-A6D3-A04C353A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798-AA86-4D8B-8F0D-6722D242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3171-C38D-4F5C-9DF9-8C96403E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C195-6D2D-4D74-A468-AFE2AA9D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AF94-E400-4EDE-ABA0-B76B1BA3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1348-5ABA-4BE7-A85F-E4856AAF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8208-982D-49FF-B3C7-B3D2DEB5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C5A7-DFE1-4F9C-9F22-0431669F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109F-A5C4-4882-97DE-F269A9B4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9CC7-77B3-48B1-9492-EBE726D9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62A1-86F6-45CC-AB0E-95FE2282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2F5C-C887-4ACD-9D3B-96C58426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B7D0-8658-4033-9A1F-2B99CF4C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A496-6CE3-41A7-B0FE-9E99342F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2802-5ABC-421F-BE0D-E4329774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C36A-365A-4DBC-BC57-E7A47744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5560-569E-4161-8C7C-CF3D81EC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B6DF-DFFF-49C1-84C3-1545F1AD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7F52-D68C-418E-99F6-35E84296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BFB-924E-4E3E-AB68-552849A1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3D27-0C5C-419E-B2C8-B5373DEF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CB93-9D81-4C60-84FE-785D5B6C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BCC-5AD5-4630-AD6E-6D945BCA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9F1-F3E7-46F4-ADC7-78500F2C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6BF0-0450-4565-8E10-49A102E16214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CA02-4FC9-44EC-B158-424E96F84664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B889-6B79-47B3-AC89-28FF40D545C3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CBB0-8AF4-4463-955E-DCD8577E39DA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5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추출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가공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로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ETT)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0002-DE8A-4499-B5DC-60FB9D71D7F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F2537-C2D1-4413-A063-39D1C0E6691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중요성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생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있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정확하고 신속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어려운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준화된 솔루션이 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많고 하드웨어가 열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질이 낮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DBAB-C954-4625-8155-6CDD9A8CD1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CC80B-ACEF-4490-B80E-65DF68C6F5B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운영계 시스템과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동시에 구축할 경우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통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 구축 후에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잘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동시에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은 시간과 경비를 절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 데이터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공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에서 필요한 장표를 만드는 노력을 대폭 절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D64-E098-413F-8262-67E432D016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E01AF-B5C0-4A3E-86E4-91B926B7501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K*Load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오프라인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으로 데이터 웨어하우스 서버에 있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파일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신속하게 로드하는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2E3-2536-4A0F-9E0C-80BD60B8177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83CFD-6645-4643-A05D-D27E2900B51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학적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지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년간의 졸업생의 성적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려 사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법론 연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F7E-657D-4DD2-9B64-FA46423BF75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7907B-0A0B-431C-B18B-548821AEF4E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1. 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개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서버와 다른 별도의 서버에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의 데이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=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xtraction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nsformation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송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nsportation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약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의 종류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 주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양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로딩 속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질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과거 데이터의 형식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 조건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의 역할 등에 좌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477-A0F5-4EAB-8E29-1EF9BA53A3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10208-FACB-42EE-A011-F14687A3D8D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형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필요한 최종 테이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원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imension tab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형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과 요약 테이블을 소스 시스템에서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의 로그 파일을 분석하여 사실 테이블과 요약 테이블을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6B2-414B-4CD0-9827-435798E76D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17B78-2D38-40A2-97F6-CC3C446B23D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초기 데이터와 주기적 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과거 수년간의 데이터를 보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초기 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itial dat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테이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gnetic Tap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태로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cord layout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형식을 지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산 시스템에서 중요한 것은 데이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적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 단위 또는 월 단위로 소스 시스템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넘어오는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많으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ff line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으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BF8-ED42-4CF5-9D0C-75DFA7531A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6A393-9F36-4069-9085-C53766E48E1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변환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ransformation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추출한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사실 테이블이 특정한 포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가 복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코드가 일치하지 않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DB(Hierarchical database)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BM IMS/DB : H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근간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올릴 때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주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641D-3303-4AE5-AFDC-E807E0B479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4A200-52E0-4187-A1F3-2DB904E6962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정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clean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들어가는 데이터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00%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D(dimension ID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해당하는 값이 차원 테이블과 상이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에 비정상적인 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이용한 데이터 정제 작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D(Operational Data Store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이용한 정제 작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변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제 작업을 용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 조건의 변화에 신속 대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의 문제에 신속 복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1A0-20F1-4B96-8F66-EBC94C0F78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DBE51-905A-4B55-B9F6-53581F6AE25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방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ff Lin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오프라인 방식의 개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과 순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의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gnetic tap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시 주의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nlin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온라인 추출 방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pen 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오라클 분산 옵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racle distributed op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5CE-3B4D-4B2E-A9F6-F517C518AF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9A52E-F77A-4C1E-ADAC-E16D97B018C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방식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공유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al-tim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원하는 은행에서 많이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ferred I/O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로그 파일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특정한 데이터가 바뀌면 로그 파일을 만들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주기적으로 데이터를 가져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07F-0501-4719-8708-1E3CED4DF4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2AA15-BF3E-4879-AA74-64FA34F1C67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추출 데이터의 정확성 보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장하는 방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필드의 값을 합산 후 대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과 로드시 에러가 생길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에러의 원인을 밝히고 교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694-A25D-414A-9CFD-9C3014D36B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5BDD1-F5A0-4C69-A3F8-34D4E23A257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4-16T05:27:39Z</dcterms:modified>
  <cp:revision>227</cp:revision>
  <dc:subject/>
  <dc:title>제5장 데이터의 추출, 가공, 로드(ETT)</dc:title>
</cp:coreProperties>
</file>