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DA91-987C-4D91-A5D5-FB3F1660E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98DF-0D5A-4029-BCCD-55CE249C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22A7-7D06-4B07-8B2D-71FF455B2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7F46-EF1A-490D-87B2-28D42BF3B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01FC-914F-42EE-9F9E-615933CBF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1D21-B447-47E7-9B74-82CBF13D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05DD-2926-4AD4-8E9A-EDB82C8B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0345-8F1A-4234-B6A7-D3258D59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8411-00F7-450D-AF06-90CA50C3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F52DD-A00D-4D61-B4DD-CC2F712D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FC9A-E82B-42E3-8BE6-1429362E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FC30-E320-4746-BBF3-FB911249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A963-0903-43BB-A90A-BE0ABF79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EACD-1A51-49F8-80CA-5F63EB41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95EE3-C5B3-46D0-92A1-994B2701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71C6-C5D4-4B90-9FE0-7140955A9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106BF-A78A-4B23-A523-F1A2ED8F6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3F7B-B3D4-4DB7-93F8-76FA5CED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EC9A-3917-4B40-9744-BC11AB94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ED43-28C8-4536-88C0-47364371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5B14-37E9-4BFA-990F-307D7FFF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C733-1CFE-44B2-B526-43A7492C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7FC8-B68C-48E6-8657-F04F751E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CD33-A69A-49F2-8211-20DF3C99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E176-0535-43B9-A7A5-1B00F97A2EC7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1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73EC-01E5-4B53-952A-3A3EAE893A3E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B164-16D8-4F10-96DF-BF01F33785D7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1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1C4A-C753-4F74-9C2B-3EBF3C741F8E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6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의 관리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2EEF-76A4-4731-B264-F86CD9D8EFC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22D853-0E03-40BD-95C6-B37CA353D18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ecur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어플리케이션의 최소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퍼포먼스의 최적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능 축소 방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보안 계층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ecurity hierarchy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설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직별 보안 관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품목별 보안 관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CAFD-EA5C-4590-A36A-54DB0D171CA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6D861C-67BF-4994-A478-44DA3C7963C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의 관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추출과 로드의 자동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요약과정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ummary process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자동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보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8ED8-217D-4B92-A4B4-F6FE0329E03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9F6A19-5647-406B-BA9B-E6FCB08185C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의 추출과 로드의 자동화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소스 시스템에서 데이터를 추출하는 과정이 복잡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여러 문제점이 발생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련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TT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과정을 자동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xtraction, Transformation, Transpor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필요 시점에 원하는 데이터를 가져온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가 정확히 반영되어 원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erformance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무결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ata integrity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 보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7784-A0AC-45D6-86C8-FE693058460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2F3CEE-DE88-404C-8552-36C0649D0A2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추출을 자동화하는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em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추출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tch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 장시간의 작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상적인 작업인지를 통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작업 진행 상화 확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TT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위한 필요 정보를 메타 테이블에 보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64D1-581A-43F7-8B41-EC5FFB60308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798CE3-AC44-467C-9E0D-0425B2ED5EE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구축 내용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주제 영역별 필요 작업 정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필요 작업별로 모듈화 하는 것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TT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자동화 첫걸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예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수주 사실 테이블에 대한 데이터를 추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월별 테이블 생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월별 테이블 삭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일별 증분 데이터 반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제약 사항 추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erformance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인 추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각 모듈별 프로그램 작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job queue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에 등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1AB9-7921-43E8-8848-9FE175FD0D2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445862-DCC2-446B-9CCF-06EE445980D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2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ummary process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자동화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구축하는 목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원하는 시점에 원하는 데이터를 빠르게 제공함으로써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의사결정을 지원하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시간이 경과함에 따라 데이터 양이 증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실적으로 대량의 데이터를 온라인으로 처리하는 것은 불가능하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본적인 데이터 양이 줄어들면 가능하다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처리하는 데이터의 크기를 줄이는 요약기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은 데이터 무결성 문제를 야기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erformanc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위해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요약 테이블을 자동 생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관리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5951-F8AD-4512-81A4-E1CEA9CCF0D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6CB7D9-A617-4CA2-AF29-2C4E3C1200E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요약 테이블 관리의 요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체 시스템에서 데이터의 정합성을 보장하기는 아주 어렵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문제점 해결을 위한 기본 개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 생성에 대한 부담 감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 삭제에 대한 부담 감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 생성의 최적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의 무결성 보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7872-67AE-4134-96D3-4E0C90CAC06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E6C2C6-F43B-4ACB-82D7-6A0E3486D3C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요약 관리를 위한 메타 데이터 설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신속 정확한 요약 과정을 위하여 별도의 메타 데이터 설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타 데이터는 데이터의 일치성 보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효과적 업데이트 및 확장성 보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요약 메타 데이터 설계에 대한 가장 기본적인 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aste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생성 일자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반영 일자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요약 생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QL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BA46-5F9E-4584-9C2A-87AE32ED54D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9846E0-276A-475C-AA92-BF01FFFC857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3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와 보안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서 산출되는 데이터는 의사결정의 토대가 되는 기본 정보이므로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누출 방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효과적인 의사결정 정보의 산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이에 대한 보안도 중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용자는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한정된 범위 내에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데이터를 이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97C9-CD6B-4879-B781-DC8146B57FB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A07B69-AC6E-4075-B033-76988369F8D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5-14T03:38:49Z</dcterms:modified>
  <cp:revision>232</cp:revision>
  <dc:subject/>
  <dc:title>제6장 데이터 웨어하우스의 관리</dc:title>
</cp:coreProperties>
</file>