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CB7-BD79-4B7D-B81F-8C7046A4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DF25-F2AE-45BA-B056-FC4C57D9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25C-09A7-472B-A963-327D9C6E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292-84FA-49B9-B0B5-B52A57EA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B88D-7254-4D04-A874-95CA403D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F3A6-8739-46B2-B060-468FAC46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73E0-3119-4B43-ABA7-831967A1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9D69-20D6-403A-B34A-9FE0EDB6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A34C-A0D9-4212-BFB0-CACA1457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5119-F59B-4434-96DE-C0483013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91F7-CCC6-49EF-BC58-ED3713E8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304-FFF0-4926-BA3B-B11F4B00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21A7-7266-400B-8CA0-CC5235CE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CDFD-D8F8-44AA-9179-8F290CCB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1585-61C3-4856-B672-D1DA1995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A381-2760-4D2E-8AD6-B561EF45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3E96-8DBE-4293-86E1-3D06BC35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3E7-10A6-4328-BD69-A8BE8114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0C7-BB26-4DF0-BDC7-CF9CF1BA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ECB-D7C8-4E92-A92E-1C994A07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D8E-E3E2-44A3-B735-3D28FEC7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BE56-5D91-4727-B76A-A5F2EAAE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E9D-A3C2-4D8E-BE75-30A83326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2FD-4299-4B40-A4AF-B700284D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3BA8-D4F9-4A73-AFA5-3FB7BDCF9D51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5B6D-1A0A-4528-A643-5902A5CFBB10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A7EF-A676-4B2D-A602-27890D9E0D57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1A52-8FD6-4754-B534-44D0493543C2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c.org/" TargetMode="External"/><Relationship Id="rId2" Type="http://schemas.openxmlformats.org/officeDocument/2006/relationships/hyperlink" Target="http://www.toc.org/" TargetMode="External"/><Relationship Id="rId3" Type="http://schemas.openxmlformats.org/officeDocument/2006/relationships/hyperlink" Target="http://www.toc.org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7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하드웨어와 데이터 웨어하우스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61D-057A-4D3F-9346-5D953EF0B94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9879C-F4AA-4B5A-88FD-81496C183A5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는 데이터베이스의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한 하드웨어에만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을 포함하는 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방형 컴퓨터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FB9-040A-40FB-9B4F-4DBF1B298A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AFF90-5677-417F-B5EF-B0A0852D091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titio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테이블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(tupl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수억 건 이상 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과 인덱스 파티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tic partition and hash par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ar que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적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최종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꼭 필요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BCA7-1BF8-4F1F-A350-80DBF87605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DD741-8A48-428B-84FD-F9B23DD2057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map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빠르고 인덱스 테이블도 작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allel Load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한꺼번에 많은 데이터를 로딩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rtable tabl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시스템의 테이블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에서 바로 데이터베이스에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able Tabl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데이터베이스에 있는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540-C648-4173-8C16-751F4C3EC1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6812C-80EC-4864-88F2-9B0978AD335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PC-D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벤치 마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(Transaction Processing Performance Counc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2"/>
              </a:rPr>
              <a:t>tp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3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TPC-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represents a broad range of decision support (DS) applications that require complex, long running queries against large complex data structures. (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Obsolete as of 4/6/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703-9C02-4B53-8E32-C07AB2FB15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B82AB-221C-4A82-83A7-4AA62A5ACFF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P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C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n on-line transaction processing benchmark, Version 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H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n ad-hoc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 business reporting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W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 transactional web e-Commerce bench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A63C-D875-4905-949A-95E4E53D9F0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B37C0-9247-465E-9B96-D83CEB7EDCA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하드웨어와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-D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벤치마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0E3-8FFC-47CD-9951-02907B958F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A1DA7-EA85-4F3A-BDB5-A8E5219D387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하드웨어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강력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cal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안정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6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i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1274-C57A-4BD6-98C5-EBA1181C96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F8303-35AF-470F-A75B-8BA40D5C4E6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MP(Symmetric Multi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emo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은 서로 독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에 있는 프로그램과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red bu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통해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공유 버스에서 충돌 현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결방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rossbar switch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하기 편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준에서 로드 분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액세스 시에 충돌이 일어나지 않는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A879-8B67-43A1-A0A9-E0C3FEF511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74DE5-21F0-437B-8CBA-5416472AD39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(Massively Parallel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PU-Memory-Dis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한조가 되어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마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베이스가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노드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럼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노드로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node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sh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ta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52A-EEAA-4733-BFBB-5163069799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36720-E4CF-419E-8071-F259C78D616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지역성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locality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ocal 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액세스하는 것은 빠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mote disk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액세스는 느리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지역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노드간 데이터의 분산 정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좋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컬 디스크에 있는 데이터를 노드 내부에서 액세스하는 경우가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격 디스크의 데이터를 자주 액세스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내용과 액세스 형태를 고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7FBA-3279-4294-8BE2-05D3F0DE38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D6683-9081-4998-9FB1-2042133BFAD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NUMA(Non-Uniform Memory Acces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UMA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메모리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그램과 데이터는 동일한 주소 환경에 존재하므로 지역성이 매우 강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나 데이터베이스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럼 하나만 존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E22-4B91-4C98-B73C-18C4B78905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3A59E-7E14-4214-B355-2E556AE0C72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를 도입할 때 고려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server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의 기능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의 아키텍처만 보고 속단 금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사의 데이터 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pdat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 patter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을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하드웨어를 비교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 선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요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대한 면밀한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안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47F4-BD0B-48D5-8031-0AF8F8FE47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3A695-2D35-44C5-9E7F-8B8CCA3EAE1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의 용량 산정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iz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3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14% +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통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시 시간이 많이 걸리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서 주기적으로 일어나는 중요한 프로세서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28BF-B5B3-4911-9676-6E90CF6010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C94DB-1FC8-45B1-BDBB-D2C31415451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dwa2007</cp:lastModifiedBy>
  <cp:lastPrinted>1999-09-10T20:38:56Z</cp:lastPrinted>
  <dcterms:modified xsi:type="dcterms:W3CDTF">2009-06-23T07:32:58Z</dcterms:modified>
  <cp:revision>237</cp:revision>
  <dc:subject/>
  <dc:title>제6장 데이터 웨어하우스의 관리</dc:title>
</cp:coreProperties>
</file>