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ABB-4C34-4C2B-8910-D2A0E77A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0EC-8BD1-4CB2-A841-25ED074D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8FE-F51D-4185-9366-C026C5EC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4DE-71AE-4CBC-B9F5-E14A9FBE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E8F2-86B3-4E0A-B997-68A03272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9B7B-D85E-402B-84CF-595E3782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EA10-91C8-49E8-91AF-3E8443AB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4ADD-73D6-41AD-B7BC-C1DC90EC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42F6-9F56-4906-A45F-0EE9B35B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D01C-25C4-450E-B841-2F708A9A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65D4-461E-424D-BB9B-97785C20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EA3-9646-4DEC-9071-0046EF7D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F617-4F71-448B-B3B6-0578AA3E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44A8-97DA-4C21-AAA0-60A60016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3F82-F989-4A8F-A65B-46733F48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F290-5D54-4776-969F-360DD2C2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1DEA-744C-4270-B828-729918F0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416-85AB-422F-960D-FE94C97D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550-4D51-4183-ACED-D941A488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F9F-A14C-47F2-AC02-9DCCF573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5C6-A544-44F6-98D2-2776EA5D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5579-FDA4-4416-B4F5-6E49065F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35F-18C4-4FEE-A58E-5D68B1E7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05C-FC3D-41DB-9B3A-3117A8E0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2-</a:t>
            </a:r>
            <a:fld id="{5A957C69-B2DE-417B-8D57-5FD40D34AC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1-</a:t>
            </a:r>
            <a:fld id="{D8822035-5535-4C47-83E5-F931DB40D5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제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2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장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 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병렬처리를 위한 하드웨어 기술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3124080"/>
            <a:ext cx="418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1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1" action="ppaction://hlinksldjump"/>
              </a:rPr>
              <a:t>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2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2" action="ppaction://hlinksldjump"/>
              </a:rPr>
              <a:t>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3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3" action="ppaction://hlinksldjump"/>
              </a:rPr>
              <a:t>기억장치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98A8910-B181-404C-83BD-DFF7A018573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Shared-memory multiprocessor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를 위한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interconnection 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방식</a:t>
            </a:r>
            <a:endParaRPr b="0" lang="en-US" sz="2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버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bu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크로스바 스위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crossbar switch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단계 상호연결망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multistage interconnection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67899BC-1A7A-46B6-B45A-1EDB87D9063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hared-bus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multiprocessor system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24" name="Picture 10" descr="2-5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5350A6A-E5C0-4810-8BE3-EEE42E3AB61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버스 구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33520" y="1143000"/>
            <a:ext cx="8001000" cy="46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장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장 간단한 연결 구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경합으로 인한 지연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  <a:ea typeface="굴림"/>
              </a:rPr>
              <a:t>성능저하 보완방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전송 속도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캐쉬 기억장치 사용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캐쉬 일관성 문제 발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수 증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다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(multiple-bus 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  <a:ea typeface="굴림"/>
              </a:rPr>
              <a:t>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모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7E9B365-F1B0-4320-8FA8-5B23CC449F4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층버스 구조를 가진 다중프로세서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N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모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Picture 1029" descr="2-6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EDB362C-A7C9-4E58-8335-8103BEF1639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ossbar switch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과 기억장치들 사이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ull connectivity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제공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비용 증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크로스바 스위치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8" name="Picture 9" descr="2-7"/>
          <p:cNvPicPr/>
          <p:nvPr/>
        </p:nvPicPr>
        <p:blipFill>
          <a:blip r:embed="rId1"/>
          <a:stretch/>
        </p:blipFill>
        <p:spPr>
          <a:xfrm>
            <a:off x="1476360" y="3141720"/>
            <a:ext cx="5545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DC332FE-6BAB-4849-95C3-C30D4A3821C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Multistage Interconnection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Bus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ossbar switch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 정도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도와 성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] Multistage Cube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3" name="Picture 9" descr="2-8"/>
          <p:cNvPicPr/>
          <p:nvPr/>
        </p:nvPicPr>
        <p:blipFill>
          <a:blip r:embed="rId1"/>
          <a:stretch/>
        </p:blipFill>
        <p:spPr>
          <a:xfrm>
            <a:off x="914400" y="2971800"/>
            <a:ext cx="6705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42B2F26-A724-4A73-BD58-76D5DE5837C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입력단 및 출력단의 노드 수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일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한 단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stag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m =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단계의 스위칭 소자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s = N/2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접속 모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" name="Picture 6" descr="2-9"/>
          <p:cNvPicPr/>
          <p:nvPr/>
        </p:nvPicPr>
        <p:blipFill>
          <a:blip r:embed="rId1"/>
          <a:stretch/>
        </p:blipFill>
        <p:spPr>
          <a:xfrm>
            <a:off x="971640" y="4653000"/>
            <a:ext cx="73087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83DD683-8E69-4B4D-B50F-F05350281D6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분산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소결합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loosely-coupled MIMD syste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이 자신의 기억장치를 별도로 가지고 있는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다중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컴퓨터시스템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라고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부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장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프로세서가 프로그램과 데이터를 지역 기억장치에 저장하므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통신량 감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메시지 전송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ssage-passing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방식을 사용하기 때문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통신 시간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상호연결망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이퍼큐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hypercube)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C526AB1-4093-470B-A070-13FDFAF0DA3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하이퍼큐브의 기본 구조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56" name="Picture 6" descr="2-10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57021B4-2210-434E-8C1A-CB7CA7D9FB3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프로세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병렬컴퓨터에서 사용되는 프로세서의 복잡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mplexity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는 병렬처리 단위의 크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즉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granularity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해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grain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크기와 프로세서 구조의 관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큰 그레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ars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한 연산을 포함한 작업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복잡한 구조의 프로세서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작은 그레인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fin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간단한 연산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작고 간단한 구조의 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CF9ED68-6D7E-4E8F-810A-109F35A5B88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.1 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시스템 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굴림"/>
              </a:rPr>
              <a:t>2.1.1 </a:t>
            </a:r>
            <a:r>
              <a:rPr b="1" lang="ko-KR" sz="2800" spc="-1" strike="noStrike">
                <a:solidFill>
                  <a:srgbClr val="3333cc"/>
                </a:solidFill>
                <a:latin typeface="굴림"/>
              </a:rPr>
              <a:t>배열 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 내 모든 프로세싱 요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이 하나의 제어 유니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U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통제 하에 동기적으로 동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로 계산 전용 컴퓨터로 활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PE (processing element)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레지스터들로 구성되어 간단한 연산만 수행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CU (control unit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를 해독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그것을 실행할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들을 결정하고 통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호스트 컴퓨터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ost computer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프로그램을 컴파일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C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download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키는 외부 범용 컴퓨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5EE34D2-ED14-4D34-8FB5-0B905C128B2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그레인 크기에 따른 프로세서 구조의 특성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그레인 크기에 따른 병렬성의 분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in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dium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ars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20C8B79-9DA9-4BC0-8E2F-44E788887C6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미세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프로그램을 가장 작은 단위로 분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고급언어 프로그램의 한 문장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어셈블리 명령어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혹은 산술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논리 연산 단위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간단한 프로세서 구조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많은 프로세서간 통신량 발생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고속 상호연결망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미세 그레인 병렬성을 이용한 시스템의 예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Thinking Machine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사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CM-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병렬 프로세서 유니트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유니트 당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02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프로세서 모듈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프로세서 모듈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6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및 라우터 등으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64K (65,536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MIT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J-machine, STARAN 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, MPP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CAA72B9-0048-4F4E-A9A1-FFD84AE76AC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2" name="Picture 4" descr="fig2-15a"/>
          <p:cNvPicPr/>
          <p:nvPr/>
        </p:nvPicPr>
        <p:blipFill>
          <a:blip r:embed="rId1"/>
          <a:stretch/>
        </p:blipFill>
        <p:spPr>
          <a:xfrm>
            <a:off x="1981080" y="990720"/>
            <a:ext cx="52167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1D823E0-A243-4667-8EF2-9C36B3FD950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7" name="Picture 4" descr="fig2-15b"/>
          <p:cNvPicPr/>
          <p:nvPr/>
        </p:nvPicPr>
        <p:blipFill>
          <a:blip r:embed="rId1"/>
          <a:stretch/>
        </p:blipFill>
        <p:spPr>
          <a:xfrm>
            <a:off x="2057400" y="990720"/>
            <a:ext cx="513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F601001-DC31-4701-9FB0-136B7789B9B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큰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67920"/>
            <a:ext cx="83055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많은 계산을 필요로 하는 작업 단위의 병렬처리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벡터 혹은 매트릭스 계산을 위한 전체 반복 루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고속 벡터 계산을 위한 파이프라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L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적은 수의 크고 복잡한 프로세서들로 구성된 슈퍼컴퓨터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 미만의 고성능 프로세서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 Y-MP : 16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AF60DBD-B0E0-4534-A108-A9FEC5A3184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AY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85" name="Picture 6" descr="fig2-16"/>
          <p:cNvPicPr/>
          <p:nvPr/>
        </p:nvPicPr>
        <p:blipFill>
          <a:blip r:embed="rId1"/>
          <a:stretch/>
        </p:blipFill>
        <p:spPr>
          <a:xfrm>
            <a:off x="2411280" y="1125360"/>
            <a:ext cx="46418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E6CFE2B-989C-41F5-BA2B-10FBFFA287D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중간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 및 큰 그레인의 중간 크기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반복 계산 루프의 내부 루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다중 사용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ulti -user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의 한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job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나 프로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rocess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의 병렬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PU : 3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64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마이크로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십 혹은 수백 개의 프로세서들로 이루어진 다중프로세서시스템으로 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천 개의 프로세서들을 가진 대규모 병렬처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PP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구조로 발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사례 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SGI  Origin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HP 9000 SuperDome, Intel iPSC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DDFB192-E2A0-4E7E-8DB4-1496BDFC79F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, VLIW,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341360"/>
            <a:ext cx="830556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속도 향상을 위하여 각 명령어 실행 시간을 한 사이클 이하로 줄이기 위한 시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대표적인 방식들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스칼라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scalar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VLIW(Very Long Instruction Wor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파이프라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pipelin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22277CA-1956-4ABB-A2BA-A5DAE1C42B1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1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scalar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내에 파이프라인 된 기능 유니트를 여러 개 포함시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매 사이클 마다 한 개 이상의 명령어들이 동시에 실행되게 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" name="Picture 11" descr="2-13"/>
          <p:cNvPicPr/>
          <p:nvPr/>
        </p:nvPicPr>
        <p:blipFill>
          <a:blip r:embed="rId1"/>
          <a:stretch/>
        </p:blipFill>
        <p:spPr>
          <a:xfrm>
            <a:off x="1835280" y="2852640"/>
            <a:ext cx="49672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ECB62E1-CF52-4874-929F-E128C2E5015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슈퍼스칼라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효율 향상을 위한 조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에 실행하는 명령어들 간에 데이터 의존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ata dependenc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존재하지 않아야 한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슈퍼스칼라의 정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degree of superscalar) =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능 유니트의 수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1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m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T(m, 1) = k + (N - m) / m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가 많아지면 속도 향상은 기능 유니트의 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신 프로세서들은 대부분 슈퍼스칼라 구조를 가지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6~8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증가되는 경향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1523880" y="4191120"/>
                <a:ext cx="4648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81E2133-5EB2-4FC4-A8BC-96CB7F57288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기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91" name="Picture 5" descr="2-1"/>
          <p:cNvPicPr/>
          <p:nvPr/>
        </p:nvPicPr>
        <p:blipFill>
          <a:blip r:embed="rId1"/>
          <a:stretch/>
        </p:blipFill>
        <p:spPr>
          <a:xfrm>
            <a:off x="1187280" y="1413000"/>
            <a:ext cx="6934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16D4426-6905-4D9E-8C47-DFFCE63BD79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펜티엄 프로세서의 슈퍼스칼라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07" name="Picture 4" descr="fig2-18"/>
          <p:cNvPicPr/>
          <p:nvPr/>
        </p:nvPicPr>
        <p:blipFill>
          <a:blip r:embed="rId1"/>
          <a:stretch/>
        </p:blipFill>
        <p:spPr>
          <a:xfrm>
            <a:off x="1828800" y="1219320"/>
            <a:ext cx="503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FB07F88-F7B1-480D-BAA8-2BE377F814C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VLIW (Very Long Instruction Word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에 실행 가능한 명령어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하나의 긴 명령어로 재배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통합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여 동시 처리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2" name="Picture 9" descr="fig2-19"/>
          <p:cNvPicPr/>
          <p:nvPr/>
        </p:nvPicPr>
        <p:blipFill>
          <a:blip r:embed="rId1"/>
          <a:stretch/>
        </p:blipFill>
        <p:spPr>
          <a:xfrm>
            <a:off x="2209680" y="2514600"/>
            <a:ext cx="4732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689B7ED-03A4-47CC-9FC5-2FA8475BA54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프로세서의 실행 시간도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16" name="Picture 5" descr="2-16"/>
          <p:cNvPicPr/>
          <p:nvPr/>
        </p:nvPicPr>
        <p:blipFill>
          <a:blip r:embed="rId1"/>
          <a:stretch/>
        </p:blipFill>
        <p:spPr>
          <a:xfrm>
            <a:off x="1447920" y="1752480"/>
            <a:ext cx="63244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8E0DD69-4511-4076-BF59-143DE48817A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나의 명령어 내에 포함시킬 수 있는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실행 가능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을 어느 정도 찾을 수 있는지가 효율을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와의 차이점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코드가 길지만 하나로 취급되기 때문에 인출과 해독은 하나의 회로에 의해 이루어지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연산의 실행 사이클만 여러 개의 유니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ALU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들로 나누어져 동시에 처리된다는 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]  TRACE-7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7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256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TRACE-28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28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1024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712B948-DAA1-4E29-9B7F-6C84A4062F3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3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pipelin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77708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파이프라인의 클럭 사이클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lock cycle tim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줄이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이닝의 정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egree of superpipeline) = 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능 유니트의 클럭 사이클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 1/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n =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 경우의 프로세서 실행 시간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Picture 11" descr="2-17"/>
          <p:cNvPicPr/>
          <p:nvPr/>
        </p:nvPicPr>
        <p:blipFill>
          <a:blip r:embed="rId1"/>
          <a:stretch/>
        </p:blipFill>
        <p:spPr>
          <a:xfrm>
            <a:off x="755640" y="4221000"/>
            <a:ext cx="7488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90CF931-8CCA-4C12-87F3-BD7126B950B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슈퍼파이프라인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슈퍼파이프라이닝의 정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클록 사이클의 분할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1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n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T(1, n) = k + (1/n) (N -1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의 많아지면 따라 속도 향상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CDC 7600, 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정술 산술 유니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n = 3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1905120" y="3733920"/>
                <a:ext cx="4343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2FE3014-9725-460A-B3A5-C5346EBF828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uperpipelined Superscalar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과 슈퍼스칼라가 결합된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 → ∞ ,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p = m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3"/>
              <p:cNvSpPr txBox="1"/>
              <p:nvPr/>
            </p:nvSpPr>
            <p:spPr>
              <a:xfrm>
                <a:off x="1143000" y="1828800"/>
                <a:ext cx="5257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6" name="Picture 14" descr="2-18"/>
          <p:cNvPicPr/>
          <p:nvPr/>
        </p:nvPicPr>
        <p:blipFill>
          <a:blip r:embed="rId1"/>
          <a:stretch/>
        </p:blipFill>
        <p:spPr>
          <a:xfrm>
            <a:off x="1676520" y="3809880"/>
            <a:ext cx="50292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0C28506-04B9-477F-AB2F-9F981E87EF1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첨단 프로세서 구조의 문제점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 및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 실행 가능한 명령어 수가 충분하지 않는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즉 명령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수준의 병렬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instruction-level parallelism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높지 않으면 하드웨어 이용률이 낮아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하는 정도의 성능을 얻기 어려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고속의 부품들로 구성되는 스위칭 메커니즘을 구현할 수 있어야 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E12A72B-C885-4930-A808-6A3CE4F13CA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2.3 </a:t>
            </a:r>
            <a:r>
              <a:rPr b="0" lang="ko-KR" sz="32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341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로 인한 병렬컴퓨터시스템의 성능 저하 요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는 프로세서에 비하여 속도가 현저히 느림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충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mory conflict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지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공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구조를 가진 병렬컴퓨터에서 여러 개의 프로세서들이 동시에 같은 기억장치 모듈을 액세스하는 경우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캐쉬 기억장치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ache memory) 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및 기억장치 인터리빙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memory interleaving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방식을 사용하여 성능 개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B7BA41E-9506-4FFF-9E10-55E99264438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3.1 Cache memory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와 주기억장치간의 속도 차이를 보완하여 프로세서의 대기 시간을 최소화 시키도록 프로세서와 주기억장치 사이에 위치시키는  고속 반도체 기억장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9" name="Picture 4" descr="fig2-23"/>
          <p:cNvPicPr/>
          <p:nvPr/>
        </p:nvPicPr>
        <p:blipFill>
          <a:blip r:embed="rId1"/>
          <a:stretch/>
        </p:blipFill>
        <p:spPr>
          <a:xfrm>
            <a:off x="1523880" y="4876920"/>
            <a:ext cx="5856480" cy="1209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6629400" y="495288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B20A04C-80D9-4771-B02B-66CFA5A9AE3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PE</a:t>
            </a: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내부 구성요소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R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내부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소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인덱스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T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전송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F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플래그 레지스터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1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계산 에 참여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0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대기 상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Picture 1028" descr="2-2"/>
          <p:cNvPicPr/>
          <p:nvPr/>
        </p:nvPicPr>
        <p:blipFill>
          <a:blip r:embed="rId1"/>
          <a:stretch/>
        </p:blipFill>
        <p:spPr>
          <a:xfrm>
            <a:off x="5003640" y="1268280"/>
            <a:ext cx="4343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613543D-C6F8-426D-AA56-367692CDE86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평균 기억장치 액세스 시간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hit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 내에 있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적중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hit ratio) h =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그램과 데이터의 지역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localit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크게 의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mis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에 없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미스율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(1-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평균 기억장치 액세스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액세스 시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809880" y="2209680"/>
                <a:ext cx="304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원하는</m:t>
                        </m:r>
                        <m:r>
                          <m:rPr>
                            <m:lit/>
                            <m:nor/>
                          </m:rPr>
                          <m:t xml:space="preserve">데이터가</m:t>
                        </m:r>
                        <m:r>
                          <m:rPr>
                            <m:lit/>
                            <m:nor/>
                          </m:rPr>
                          <m:t xml:space="preserve">캐쉬에</m:t>
                        </m:r>
                        <m:r>
                          <m:rPr>
                            <m:lit/>
                            <m:nor/>
                          </m:rPr>
                          <m:t xml:space="preserve">있는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전체</m:t>
                        </m:r>
                        <m:r>
                          <m:rPr>
                            <m:lit/>
                            <m:nor/>
                          </m:rPr>
                          <m:t xml:space="preserve">기억장치</m:t>
                        </m:r>
                        <m:r>
                          <m:rPr>
                            <m:lit/>
                            <m:nor/>
                          </m:rPr>
                          <m:t xml:space="preserve">액세스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4343400" y="5029200"/>
                <a:ext cx="3200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1338996-DEE5-4525-9AFA-AAA62A9302D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의 최적 설계 목표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률의 극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액세스 시간의 최소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실패에 따른 지연시간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와 캐쉬간의 데이터 일관성 유지 및 그에 따른 오버헤드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E8D9F4A-DD5A-4AE9-BB05-1564781727A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의 크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siz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적중률 향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상승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캐쉬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 ~ 128 Kword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출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etch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요구 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emand 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선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pre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필요한 정보를 인출할 때 근접한 위치에 있는 정보들을 함께 인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지역성이 높은 경우에 효율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블록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4 ~ 8 word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8A4FA21-2A5D-424B-A43C-B0B5317E443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사상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apping metho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직접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irect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간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일한 그룹에 속한 블록들이 빈번히 액세스 될 경우에 캐쉬 실패율이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완전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ully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높은 유연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lexibility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든 캐쉬 슬롯들의 태그 번호들을 고속 검색하기 위한 복잡한 회로 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set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의 크기는 캐쉬 적중률에 영향을 주는 요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집합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-way, 4-way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70556C3-22EE-4CCD-AD7C-28EFD246448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4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교체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replacement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RU (Least Rec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장 높은 적중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FIFO (First In First Out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원형 버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ircular buffer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구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FU (Least Frequ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수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ounter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Random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DF4512A-4A81-4461-9000-3C2300C1C04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5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쓰기 정책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write policy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through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에서 수정된 데이터를 주기억장치에도 갱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횟수가 많아져서 병목 현상을 야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back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데이터 수정은 캐쉬에서만 이루어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의 일부 데이터들 무효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돌발적 사고 발생시 데이터 분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7" name="Picture 4" descr="2-20"/>
          <p:cNvPicPr/>
          <p:nvPr/>
        </p:nvPicPr>
        <p:blipFill>
          <a:blip r:embed="rId1"/>
          <a:stretch/>
        </p:blipFill>
        <p:spPr>
          <a:xfrm>
            <a:off x="1905120" y="3886200"/>
            <a:ext cx="49528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BACDA55-B47A-4D1B-BDE6-1DB4BFDA8E3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ultiprocessor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의 데이터 일관성 문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ata consistency problem) 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--- 4.4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절 참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2" name="Picture 4" descr="2-21"/>
          <p:cNvPicPr/>
          <p:nvPr/>
        </p:nvPicPr>
        <p:blipFill>
          <a:blip r:embed="rId1"/>
          <a:stretch/>
        </p:blipFill>
        <p:spPr>
          <a:xfrm>
            <a:off x="2590920" y="2286000"/>
            <a:ext cx="43434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ABB4777-9CE1-4F68-9570-7B32EED8B32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94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6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중 캐쉬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multiple cach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75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hierarchical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3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계층적으로 설치</a:t>
            </a:r>
            <a:br>
              <a:rPr sz="2400"/>
            </a:br>
            <a:r>
              <a:rPr b="1" lang="ko-KR" sz="2000" spc="-1" strike="noStrike">
                <a:solidFill>
                  <a:srgbClr val="000000"/>
                </a:solidFill>
                <a:latin typeface="서울도시"/>
              </a:rPr>
              <a:t>용량</a:t>
            </a:r>
            <a:r>
              <a:rPr b="1" lang="en-US" sz="2000" spc="-1" strike="noStrike">
                <a:solidFill>
                  <a:srgbClr val="000000"/>
                </a:solidFill>
                <a:latin typeface="서울도시"/>
              </a:rPr>
              <a:t>: L1 &lt; L2 &lt; L3 &lt; M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ﵵ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온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칩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on-chip cache):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CP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칩 내부에 설치되는 캐쉬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이 가장 짧다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7" name="Picture 4" descr="2-22"/>
          <p:cNvPicPr/>
          <p:nvPr/>
        </p:nvPicPr>
        <p:blipFill>
          <a:blip r:embed="rId1"/>
          <a:stretch/>
        </p:blipFill>
        <p:spPr>
          <a:xfrm>
            <a:off x="5724360" y="2133720"/>
            <a:ext cx="2362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61CDD3A-2051-426E-B382-57F40CACCB9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의 액세스 시간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(2003</a:t>
            </a:r>
            <a:r>
              <a:rPr b="0" lang="ko-KR" sz="1800" spc="-1" strike="noStrike" u="sng">
                <a:solidFill>
                  <a:srgbClr val="0000ff"/>
                </a:solidFill>
                <a:uFillTx/>
                <a:latin typeface="Comic Sans MS"/>
              </a:rPr>
              <a:t>년 기준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펜티엄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V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1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3.5 ns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아이테니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1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6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3 (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외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1 ns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8394640-65BA-46B8-B3B5-D4509E01DFD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를 가진 기억장치시스템의 액세스 시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적중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적중률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m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의 액세스 시간이라 할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br>
              <a:rPr sz="2400"/>
            </a:br>
            <a:br>
              <a:rPr sz="2400"/>
            </a:br>
            <a:r>
              <a:rPr b="1" lang="ko-KR" sz="2400" spc="-1" strike="noStrike" u="sng">
                <a:solidFill>
                  <a:srgbClr val="009900"/>
                </a:solidFill>
                <a:uFillTx/>
                <a:latin typeface="굴림"/>
              </a:rPr>
              <a:t>평균 기억장치 액세스 시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a =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1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예제 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2-2] 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참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96FE752-2303-47F9-88FF-26A37ED6DD4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다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0" name="Picture 5" descr="2-3"/>
          <p:cNvPicPr/>
          <p:nvPr/>
        </p:nvPicPr>
        <p:blipFill>
          <a:blip r:embed="rId1"/>
          <a:stretch/>
        </p:blipFill>
        <p:spPr>
          <a:xfrm>
            <a:off x="1143000" y="1208160"/>
            <a:ext cx="67816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5187213-4C7F-43B7-BF54-4E2C15E3BB5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012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분리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plit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 캐쉬가 명령어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instruction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데이터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data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분리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PowerPC 620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0" name="Picture 4" descr="2-23"/>
          <p:cNvPicPr/>
          <p:nvPr/>
        </p:nvPicPr>
        <p:blipFill>
          <a:blip r:embed="rId1"/>
          <a:stretch/>
        </p:blipFill>
        <p:spPr>
          <a:xfrm>
            <a:off x="1476360" y="2781360"/>
            <a:ext cx="64087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266E206-C186-4F92-BB38-40E14A703D3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아이테니움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Itanium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Picture 4" descr="2-24"/>
          <p:cNvPicPr/>
          <p:nvPr/>
        </p:nvPicPr>
        <p:blipFill>
          <a:blip r:embed="rId1"/>
          <a:stretch/>
        </p:blipFill>
        <p:spPr>
          <a:xfrm>
            <a:off x="971640" y="2205000"/>
            <a:ext cx="676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82C65A7-0CDD-41FC-835A-3D2568E3DD3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3.2 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기억장치 인터리빙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memory interleaving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hared-memory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emory conflict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병목 현상을 완화시키기 위한 방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를 여러 개의 독립적인 모듈로 나누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소지정 방식을 적절히 조정함으로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순차적으로 배열된 명령어들 또는 데이터들이 기억장치 모듈들에 분산 저장되도록 함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병렬 액세스 가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구성 방식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상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하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혼합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D458441-9B2B-4CD2-A7C0-CB080A4A82F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5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가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igh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389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를 모듈들에 순차적으로 지정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4" name="Picture 13" descr="fig2-26"/>
          <p:cNvPicPr/>
          <p:nvPr/>
        </p:nvPicPr>
        <p:blipFill>
          <a:blip r:embed="rId1"/>
          <a:stretch/>
        </p:blipFill>
        <p:spPr>
          <a:xfrm>
            <a:off x="2050920" y="3156120"/>
            <a:ext cx="49039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88B6991-3ED8-498F-A111-F027B3C2930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1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모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로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9" name="Picture 4" descr="fig2-27"/>
          <p:cNvPicPr/>
          <p:nvPr/>
        </p:nvPicPr>
        <p:blipFill>
          <a:blip r:embed="rId1"/>
          <a:stretch/>
        </p:blipFill>
        <p:spPr>
          <a:xfrm>
            <a:off x="2340000" y="2276640"/>
            <a:ext cx="5148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AD72ED0-DC5D-4F20-8C8B-7241CD59951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나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가 모듈 단위로 인터리빙 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4" name="Picture 9" descr="fig2-24"/>
          <p:cNvPicPr/>
          <p:nvPr/>
        </p:nvPicPr>
        <p:blipFill>
          <a:blip r:embed="rId1"/>
          <a:stretch/>
        </p:blipFill>
        <p:spPr>
          <a:xfrm>
            <a:off x="2195640" y="3141720"/>
            <a:ext cx="4248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0F83B26-5A19-4802-AC24-8BB6EA1587B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9" name="Picture 4" descr="fig2-25"/>
          <p:cNvPicPr/>
          <p:nvPr/>
        </p:nvPicPr>
        <p:blipFill>
          <a:blip r:embed="rId1"/>
          <a:stretch/>
        </p:blipFill>
        <p:spPr>
          <a:xfrm>
            <a:off x="1619280" y="1773360"/>
            <a:ext cx="5797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898635A-F0C8-491A-B985-CB449371D95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367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igh-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066320"/>
            <a:ext cx="770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mory bank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내부 모듈들 간에는 상위 인터리빙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외부 모듈 간에는 하위 인터리빙으로 주소지정하는 방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모듈들로 이루어지는 그룹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4" name="Picture 11" descr="2-29"/>
          <p:cNvPicPr/>
          <p:nvPr/>
        </p:nvPicPr>
        <p:blipFill>
          <a:blip r:embed="rId1"/>
          <a:stretch/>
        </p:blipFill>
        <p:spPr>
          <a:xfrm>
            <a:off x="1619280" y="2637000"/>
            <a:ext cx="53276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7CBBE8A-8490-410E-85FD-F5751DE56E7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155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9" name="Picture 5" descr="2-30"/>
          <p:cNvPicPr/>
          <p:nvPr/>
        </p:nvPicPr>
        <p:blipFill>
          <a:blip r:embed="rId1"/>
          <a:stretch/>
        </p:blipFill>
        <p:spPr>
          <a:xfrm>
            <a:off x="1619280" y="1773360"/>
            <a:ext cx="57610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BBD1301-DC87-4ADE-A51A-2FD1A6A59B7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2) C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 및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ncurrent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기억장치 모듈별로 주소가 도착하면 액세스 동작을 시작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액세스 시간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T =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a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 + (M x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b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버스 클럭의 주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모듈의 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4" name="Picture 7" descr="fig2-30"/>
          <p:cNvPicPr/>
          <p:nvPr/>
        </p:nvPicPr>
        <p:blipFill>
          <a:blip r:embed="rId1"/>
          <a:stretch/>
        </p:blipFill>
        <p:spPr>
          <a:xfrm>
            <a:off x="1835280" y="3454560"/>
            <a:ext cx="56926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07F1C2C-DF45-403A-9613-7B580A9FF29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상호연결망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(Interconnection Networks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정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tat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연결 구조가 고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선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성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나무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매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토릭 배열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완전 연결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코달 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큐브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동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Dynam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실행 시간 중에 연결 구조 변경 가능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템에 사용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07D0BD3-F933-4565-BA1D-684CC3625A2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및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34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S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imultaneous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위 인터리빙 방식으로 구성된 기억장치 모듈들에 주소가 동시에 인가하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모든 모듈들에서 동시에 액세스 동작이 시작되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된 데이터들은 순차적으로 전송하는 방식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인 입력 데이터 흐름이 필요한 파이프라인 컴퓨터에 유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와 같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액세스 보장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 전송 가능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burst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버스 모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88C5C75-CF51-408A-BD8D-4DBE6DE15AD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기억장치 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352" name="Picture 4" descr="fig2-31"/>
          <p:cNvPicPr/>
          <p:nvPr/>
        </p:nvPicPr>
        <p:blipFill>
          <a:blip r:embed="rId1"/>
          <a:stretch/>
        </p:blipFill>
        <p:spPr>
          <a:xfrm>
            <a:off x="2395440" y="1125360"/>
            <a:ext cx="52246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BFA46AB-2C24-443A-B7D9-2B8025BAFDF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액세스의 시간흐름도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77230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액세스 시간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M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  <a:ea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7" name="Picture 4" descr="2-33"/>
          <p:cNvPicPr/>
          <p:nvPr/>
        </p:nvPicPr>
        <p:blipFill>
          <a:blip r:embed="rId1"/>
          <a:stretch/>
        </p:blipFill>
        <p:spPr>
          <a:xfrm>
            <a:off x="1619280" y="2276640"/>
            <a:ext cx="61214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7242F0E-79BA-465C-B779-B5DFCA99533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정적 상호연결 네트워크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8" name="Picture 5" descr="2-4"/>
          <p:cNvPicPr/>
          <p:nvPr/>
        </p:nvPicPr>
        <p:blipFill>
          <a:blip r:embed="rId1"/>
          <a:stretch/>
        </p:blipFill>
        <p:spPr>
          <a:xfrm>
            <a:off x="1979640" y="1052640"/>
            <a:ext cx="4929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AA62C66-6AD0-472B-AD14-BC215D5177D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굴림"/>
                <a:ea typeface="굴림"/>
              </a:rPr>
              <a:t>2.1.2 </a:t>
            </a:r>
            <a:r>
              <a:rPr b="1" lang="ko-KR" sz="2800" spc="-1" strike="noStrike">
                <a:solidFill>
                  <a:srgbClr val="0000ff"/>
                </a:solidFill>
                <a:latin typeface="굴림"/>
                <a:ea typeface="굴림"/>
              </a:rPr>
              <a:t>다중프로세서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공유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shared-memory system)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밀결합 구조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tight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기억장치가 모든 프로세서들에 의해 공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분산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distributed-memory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소결합 시스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ose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각 프로세서가 기억장치를 공유하지 않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자신의 지역 기억장치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cal memory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를 별도로 소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독립적인 컴퓨터들의 결합 형태이므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다중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컴퓨터시스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multiple-computer system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라고도 부름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2D08C5B-7579-4B5E-9049-779CB731046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1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Shared-memory multiprocessor architecture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 데이터들이 공유 기억장치에 저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별도의 프로세서간 통신 메커니즘의 불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태스크들을 프로세서들에게 균등 할당이 가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프로세서 이용률을 극대화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시스템 효율 향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버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혹은 상호연결망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통신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경합으로 인한 지연 발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I/O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충돌 발생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상호연결망의 고속화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기억장치의 사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인터리빙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02:04:40Z</dcterms:created>
  <dc:creator/>
  <dc:description/>
  <dc:language>en-US</dc:language>
  <cp:lastModifiedBy>dwa2007</cp:lastModifiedBy>
  <dcterms:modified xsi:type="dcterms:W3CDTF">2009-06-23T07:33:05Z</dcterms:modified>
  <cp:revision>67</cp:revision>
  <dc:subject/>
  <dc:title>제2장. 병렬처리를 위한 하드웨어 기술</dc:title>
</cp:coreProperties>
</file>